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922-F34B-4AF3-8C11-4CCF2991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21C-1C9C-47EB-8DAD-8A89C6E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450-1A6D-4C64-B288-23FF23D7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331-690F-4E88-ABD3-F7421391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58D-ED02-49B2-9919-B05B0B4C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6B0-593A-4AFE-A25B-348D2B17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22E-8E36-498E-AFB6-29592437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17B-27FB-440F-ADA7-6F14196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72B-8D29-4C12-9553-6C04AF17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8DD-E048-4279-A852-816DCC4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B31-4B33-4939-9844-E442F49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DE5-3F94-4144-9EDC-2C7D5CA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729-C3A6-44A6-BA9D-7ED14EE3836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László</cp:lastModifiedBy>
  <dcterms:modified xsi:type="dcterms:W3CDTF">2013-11-05T17:41:45Z</dcterms:modified>
  <cp:revision>10</cp:revision>
  <dc:subject/>
  <dc:title>XXX Videokölcsönző</dc:title>
</cp:coreProperties>
</file>