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8C66-FD60-4CED-86E6-CD828EC931D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6E0-65C1-432E-957B-9E3932AB8BD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572-9E6C-4F87-A0DD-0B29B550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188-EF91-4FCD-9665-EAC7DCA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0A6-76AF-4289-928F-4D77B483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5C1-C893-4A58-9E26-84F51754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5A7-B1C7-4F2D-B77D-0816591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CFB-867C-4D0A-9AD9-AD24F7C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478-624A-4BC5-A811-B8CF5DA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168-E6F3-40E6-A446-330F45A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226-4052-4610-B69A-D4012AA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C2-14BD-4889-B44E-034CC45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209-B2A7-4490-971D-EE112EF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77A-39BA-4FE3-996D-80AAF0C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51A-19E2-487C-8029-3D4883A28F4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Program Files\Common Files\Microsoft Shared\Clipart\cagcat50\PE01686_.wmf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8580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693432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emberke</cp:lastModifiedBy>
  <dcterms:modified xsi:type="dcterms:W3CDTF">2012-03-12T12:11:58Z</dcterms:modified>
  <cp:revision>8</cp:revision>
  <dc:subject>ECDL</dc:subject>
  <dc:title>Prezentáció forrás, 21.feladat</dc:title>
</cp:coreProperties>
</file>