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99CC-CBB0-4B34-9D43-54722EBA53A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244E-5C79-42FF-8FBE-19B83B025FC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kedvezmény mértéke 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C812-0398-4678-8710-3C8D2C03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574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4B51-7B55-486A-BCA1-C9AEDC79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574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373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CD8B-0244-4CC3-8BED-B9069CC8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2136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8568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5740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2136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8568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711F-B6AD-48F2-8224-C073F01F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FE35-E589-4D4E-8298-7499298D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C723-A0CF-4D86-A621-2A288316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713B-A80E-49FE-B55E-044E0D59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CA71-9C83-44E5-AA64-545332FC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602A-B7E6-4989-BF0A-2F31F910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574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F226-C35E-4AAC-BF6C-318AA668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73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EE46-F7F3-44B9-A4DE-E245DCE3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574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71E0-967F-452D-9033-34D007CC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A1E8-C580-4619-B16F-F76493103BA6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33520" y="0"/>
            <a:ext cx="1079280" cy="6095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XX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Könyvkiad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2895480" y="2652840"/>
            <a:ext cx="374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iadónk tankönyvek, ismeretterjesztő kiadványok, lexikonok kiadásával foglalkoz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6516720" y="4365720"/>
            <a:ext cx="215892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ddig megjelent kiadványa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egék és mondák (történelmi olvasókönyv általános iskolásokna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ettségi feladatok fiziká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ettségi feladatok biológiá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ettségi feladatok matematiká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iológiai kislexik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3"/>
          <p:cNvSpPr/>
          <p:nvPr/>
        </p:nvSpPr>
        <p:spPr>
          <a:xfrm>
            <a:off x="2743200" y="1523880"/>
            <a:ext cx="5435640" cy="3311640"/>
          </a:xfrm>
          <a:prstGeom prst="irregularSeal2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iszonteladók és iskolák kedvezménnyel vásárolhatna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843280" y="2637000"/>
            <a:ext cx="374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Keresse fel bemutatóüzletünket a kiadónál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08:14:40Z</dcterms:created>
  <dc:creator>NJSZT</dc:creator>
  <dc:description/>
  <dc:language>en-US</dc:language>
  <cp:lastModifiedBy>emberke</cp:lastModifiedBy>
  <dcterms:modified xsi:type="dcterms:W3CDTF">2013-10-07T05:45:50Z</dcterms:modified>
  <cp:revision>8</cp:revision>
  <dc:subject>ECDL</dc:subject>
  <dc:title>Prezentáció forrás, 40.feladat</dc:title>
</cp:coreProperties>
</file>