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DF87-C52E-4378-964D-F98C880A6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0758-D40F-4EBA-A344-C8F29232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BAE6-E070-4BE2-AC02-1B48DA44F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BA1B-57BE-4165-A656-D09FC50E8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0F0B-34A8-4A1E-8055-2B4B63B5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1A6F-1D7E-4067-8A91-9718A5CB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AF37-C12D-4D04-8B7F-7383CC2C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EC97-38E0-4BF5-8E0E-5AB4BDAC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2A63-063A-4421-97B1-4D5F148A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A6D1-7BDA-4730-83E1-2967D429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B298-11B6-4049-A590-72FBC517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C6B4-7974-4AB6-B996-1150433D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17A0-0490-4BC5-89FB-35A22F8E3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98840" y="639720"/>
            <a:ext cx="7544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Times New Roman"/>
              </a:rPr>
              <a:t>XXX 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Times New Roman"/>
              </a:rPr>
              <a:t>Pi</a:t>
            </a:r>
            <a:r>
              <a:rPr b="0" lang="hu-HU" sz="18000" spc="-1" strike="noStrike">
                <a:solidFill>
                  <a:srgbClr val="000000"/>
                </a:solidFill>
                <a:latin typeface="Times New Roman"/>
              </a:rPr>
              <a:t>zzéria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47920" y="4591080"/>
            <a:ext cx="6095880" cy="380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3105000"/>
            <a:ext cx="6095880" cy="38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933480"/>
            <a:ext cx="6095880" cy="380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876240"/>
            <a:ext cx="5639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zz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mbá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jtos, gombá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öldsé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wa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0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ogna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al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sványví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Ft/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énsavas üdít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 Ft/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stos üdít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Ft/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szer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ztenyepür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gylaltkeh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0240" y="2754360"/>
            <a:ext cx="626688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5520"/>
                <a:tab algn="l" pos="4670280"/>
                <a:tab algn="l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yitvatartá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–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9.00–21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5520"/>
                <a:tab algn="l" pos="4670280"/>
                <a:tab algn="l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zo–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00–23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5520"/>
                <a:tab algn="l" pos="4670280"/>
                <a:tab algn="l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ztalfoglalás és megrendelés: (10) 123-4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9:23:51Z</dcterms:created>
  <dc:creator>NJSZT</dc:creator>
  <dc:description/>
  <dc:language>en-US</dc:language>
  <cp:lastModifiedBy>.</cp:lastModifiedBy>
  <dcterms:modified xsi:type="dcterms:W3CDTF">2003-05-24T21:34:15Z</dcterms:modified>
  <cp:revision>6</cp:revision>
  <dc:subject>ECDL</dc:subject>
  <dc:title>Prezentáció forrás, 6.feladat</dc:title>
</cp:coreProperties>
</file>