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E15-E059-4825-A840-A9E05C3F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F6E-84B1-49F3-8B01-8188A11D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8AC-E81E-4A4F-96AB-BCD0A41E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1C0-8302-452F-A8C1-635BD608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81D-C2B3-48CB-820A-E4123B73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475-B8BA-4B1A-81ED-12D639B2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29F-FB54-4E17-B99F-ED9FBB20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4D9-92F5-445D-A4F4-4970EAE6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2864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EDA-DBAE-4167-9A93-9D86B63C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7D7-35EB-4DBE-916A-33D3A7FD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D03-B9B5-4CF8-B53F-A753836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25A-B189-4EE0-AE5F-B5C3DB84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617F-A464-4A61-9BE9-D8BE9135A5E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7"/>
          <p:cNvSpPr/>
          <p:nvPr/>
        </p:nvSpPr>
        <p:spPr>
          <a:xfrm>
            <a:off x="142920" y="189000"/>
            <a:ext cx="43164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8"/>
          <p:cNvSpPr/>
          <p:nvPr/>
        </p:nvSpPr>
        <p:spPr>
          <a:xfrm>
            <a:off x="647640" y="189000"/>
            <a:ext cx="432000" cy="431640"/>
          </a:xfrm>
          <a:prstGeom prst="ellipse">
            <a:avLst/>
          </a:prstGeom>
          <a:solidFill>
            <a:srgbClr val="ff8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9"/>
          <p:cNvSpPr/>
          <p:nvPr/>
        </p:nvSpPr>
        <p:spPr>
          <a:xfrm>
            <a:off x="1150920" y="189000"/>
            <a:ext cx="4316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10"/>
          <p:cNvSpPr/>
          <p:nvPr/>
        </p:nvSpPr>
        <p:spPr>
          <a:xfrm>
            <a:off x="1655640" y="189000"/>
            <a:ext cx="432000" cy="431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11"/>
          <p:cNvSpPr/>
          <p:nvPr/>
        </p:nvSpPr>
        <p:spPr>
          <a:xfrm>
            <a:off x="2158920" y="189000"/>
            <a:ext cx="432000" cy="43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2"/>
          <p:cNvSpPr/>
          <p:nvPr/>
        </p:nvSpPr>
        <p:spPr>
          <a:xfrm>
            <a:off x="2664000" y="189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3"/>
          <p:cNvSpPr/>
          <p:nvPr/>
        </p:nvSpPr>
        <p:spPr>
          <a:xfrm>
            <a:off x="3166920" y="189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23"/>
          <p:cNvSpPr/>
          <p:nvPr/>
        </p:nvSpPr>
        <p:spPr>
          <a:xfrm>
            <a:off x="3672000" y="189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7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11280" y="234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zdeti pozí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golyók pontérték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 golyó: 7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szín golyó: 6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k golyó: 5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arna golyó: 4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Zöld golyó: 3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árga golyó: 2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z utóbbi 20 év neves játékos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phen He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ve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nnie O'Sulli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rk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n Do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ter Eb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raeme D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haun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tthew St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immy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9:07:41Z</dcterms:created>
  <dc:creator>afg</dc:creator>
  <dc:description/>
  <dc:language>en-US</dc:language>
  <cp:lastModifiedBy>Mariann</cp:lastModifiedBy>
  <dcterms:modified xsi:type="dcterms:W3CDTF">2013-09-08T12:33:51Z</dcterms:modified>
  <cp:revision>8</cp:revision>
  <dc:subject/>
  <dc:title>1. dia</dc:title>
</cp:coreProperties>
</file>