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EA5-C37E-407F-ACEA-1D507308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1E4-E080-4C4E-8136-FFE4A2CF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B2A-923E-46BA-A0F7-531F7F48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B7E-EFFD-40D4-A1E5-420F838E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8AD-FCC8-4F5B-8B27-8CB383FB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A8C-96A8-4EB3-BEC4-3F4589B5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E33-58A0-47B5-B9B4-0068EFFD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C52-3767-4D18-9799-FF3994FF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43E-D5FA-4F48-9FC5-2EBB1A26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1C2-BADD-4DC5-86E9-B22CBCD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BB6-2E09-40D2-903C-D88BA5C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780-63EC-4FB2-9D5C-C7F80EBE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9D4D-176C-44C4-A771-1BA380451F1C}" type="datetime">
              <a:rPr b="0" lang="en-US" sz="1400" spc="-1" strike="noStrike">
                <a:solidFill>
                  <a:srgbClr val="ffcc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457D-291B-4DF8-A874-16D465DC28A6}" type="slidenum">
              <a:rPr b="0" lang="en-US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D03A2-E07A-43D8-A4BA-AD97FF4A45E0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90B46-2986-418C-A6A4-D5C6532F1EF6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37CF9-6FB8-45A3-925E-B4D2F8DDC89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EB682-DCB1-436D-9083-0EE79B773BCD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1571E-9BDA-4961-A827-FF21B8E8EA64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CF11D-D3D0-4064-9F9C-1F3A19BB3A4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.</dc:creator>
  <dc:description/>
  <dc:language>en-US</dc:language>
  <cp:lastModifiedBy>.</cp:lastModifiedBy>
  <dcterms:modified xsi:type="dcterms:W3CDTF">2003-03-25T14:20:11Z</dcterms:modified>
  <cp:revision>6</cp:revision>
  <dc:subject/>
  <dc:title>Az oldalak tartalma</dc:title>
</cp:coreProperties>
</file>