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7F4-1AE7-4267-814E-82E0B275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0A0-F84E-4A50-8E9D-91F7A4FC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1AD-F2CE-4375-B3ED-249955C0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001-9444-490E-B4E1-0C20BBEA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2A8-E9B4-4DB5-95A2-D2C60B23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745-B43A-4344-91DC-EF03E100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2B9-54E7-42A0-B538-8324FBBD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264-4968-465F-8F11-0432AD78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2864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88E-C0ED-4D98-8E72-1CB74C41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C50-65A0-4BD9-BC34-E2638C92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8B4-2A17-4307-9684-1074CE4A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63C-5EF3-4BE3-AFD5-386B2A86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791F-2D64-434D-87ED-325B3DB9FA3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7"/>
          <p:cNvSpPr/>
          <p:nvPr/>
        </p:nvSpPr>
        <p:spPr>
          <a:xfrm>
            <a:off x="142920" y="189000"/>
            <a:ext cx="43164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8"/>
          <p:cNvSpPr/>
          <p:nvPr/>
        </p:nvSpPr>
        <p:spPr>
          <a:xfrm>
            <a:off x="647640" y="189000"/>
            <a:ext cx="432000" cy="431640"/>
          </a:xfrm>
          <a:prstGeom prst="ellipse">
            <a:avLst/>
          </a:prstGeom>
          <a:solidFill>
            <a:srgbClr val="ff8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9"/>
          <p:cNvSpPr/>
          <p:nvPr/>
        </p:nvSpPr>
        <p:spPr>
          <a:xfrm>
            <a:off x="1150920" y="189000"/>
            <a:ext cx="4316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10"/>
          <p:cNvSpPr/>
          <p:nvPr/>
        </p:nvSpPr>
        <p:spPr>
          <a:xfrm>
            <a:off x="1655640" y="189000"/>
            <a:ext cx="432000" cy="431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11"/>
          <p:cNvSpPr/>
          <p:nvPr/>
        </p:nvSpPr>
        <p:spPr>
          <a:xfrm>
            <a:off x="2158920" y="189000"/>
            <a:ext cx="432000" cy="43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2"/>
          <p:cNvSpPr/>
          <p:nvPr/>
        </p:nvSpPr>
        <p:spPr>
          <a:xfrm>
            <a:off x="2664000" y="189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3"/>
          <p:cNvSpPr/>
          <p:nvPr/>
        </p:nvSpPr>
        <p:spPr>
          <a:xfrm>
            <a:off x="3166920" y="189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23"/>
          <p:cNvSpPr/>
          <p:nvPr/>
        </p:nvSpPr>
        <p:spPr>
          <a:xfrm>
            <a:off x="3672000" y="189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7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11280" y="234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zdeti pozí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golyók pontérték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 golyó: 7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szín golyó: 6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k golyó: 5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arna golyó: 4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Zöld golyó: 3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árga golyó: 2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z utóbbi 20 év neves játékos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phen He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ve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onnie O'Sulli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rk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n Do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ter Eb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raeme D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haun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tthew St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immy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9:07:41Z</dcterms:created>
  <dc:creator>afg</dc:creator>
  <dc:description/>
  <dc:language>en-US</dc:language>
  <cp:lastModifiedBy>Mariann</cp:lastModifiedBy>
  <dcterms:modified xsi:type="dcterms:W3CDTF">2013-09-08T12:33:51Z</dcterms:modified>
  <cp:revision>8</cp:revision>
  <dc:subject/>
  <dc:title>1. dia</dc:title>
</cp:coreProperties>
</file>