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CE4-7D76-44C3-9793-E6AE40EE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C6F-2603-4D34-9377-24E774B8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45C-F326-4F6C-A515-7207B197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5D7-F5E5-4D13-9611-3B88E763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3C8-D8B4-4371-B007-BEEB628E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0FD-D551-4A2F-AE49-79B55BBF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E94-C80B-4429-BE10-C0739DE8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3D2-024B-47B8-976E-090126E0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0756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C97-054A-47D1-926A-DFD4FDBA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02D-4C01-4F8D-AFC5-9E0A2DD5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B7F-2D7A-4346-AA12-024D4C03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E72-FF4B-474E-BEF8-D26E2778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D1E2-B3F4-448C-9D75-D7966CD71CC1}" type="slidenum">
              <a:rPr b="0" lang="hu-HU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Naprendszer"/>
          <p:cNvPicPr/>
          <p:nvPr/>
        </p:nvPicPr>
        <p:blipFill>
          <a:blip r:embed="rId2"/>
          <a:stretch/>
        </p:blipFill>
        <p:spPr>
          <a:xfrm>
            <a:off x="774720" y="189000"/>
            <a:ext cx="75945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4"/>
          <p:cNvSpPr/>
          <p:nvPr/>
        </p:nvSpPr>
        <p:spPr>
          <a:xfrm>
            <a:off x="0" y="47466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25"/>
          <p:cNvSpPr/>
          <p:nvPr/>
        </p:nvSpPr>
        <p:spPr>
          <a:xfrm>
            <a:off x="0" y="47466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bbe0e3"/>
                </a:solidFill>
                <a:latin typeface="Arial"/>
              </a:rPr>
              <a:t>A bolygók főbb adatai a Földhöz viszonyítva</a:t>
            </a:r>
            <a:endParaRPr b="0" lang="en-US" sz="40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050920" y="2492280"/>
          <a:ext cx="4969080" cy="3529080"/>
        </p:xfrm>
        <a:graphic>
          <a:graphicData uri="http://schemas.openxmlformats.org/drawingml/2006/table">
            <a:tbl>
              <a:tblPr/>
              <a:tblGrid>
                <a:gridCol w="1243080"/>
                <a:gridCol w="1241640"/>
                <a:gridCol w="1242720"/>
                <a:gridCol w="1241640"/>
              </a:tblGrid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Bolyg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Egyenlítői</a:t>
                      </a:r>
                      <a:br>
                        <a:rPr sz="1200"/>
                      </a:b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átmér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Töm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Keringési 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Merkú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3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Vé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9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Fö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Jupi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3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1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Szatur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9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29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Urá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3,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84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Neptu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3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64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309"/>
          <p:cNvSpPr/>
          <p:nvPr/>
        </p:nvSpPr>
        <p:spPr>
          <a:xfrm>
            <a:off x="0" y="47466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be0e3"/>
                </a:solidFill>
                <a:latin typeface="Arial"/>
              </a:rPr>
              <a:t>A Naprendszer bolygói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Kőzetbolygók: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Merkúr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Vé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Föld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Gázbolygók: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Szatur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Urá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Neptu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Plútó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8:26:57Z</dcterms:created>
  <dc:creator>afg</dc:creator>
  <dc:description/>
  <dc:language>en-US</dc:language>
  <cp:lastModifiedBy>Mariann</cp:lastModifiedBy>
  <dcterms:modified xsi:type="dcterms:W3CDTF">2015-10-06T18:25:07Z</dcterms:modified>
  <cp:revision>8</cp:revision>
  <dc:subject/>
  <dc:title>1. dia</dc:title>
</cp:coreProperties>
</file>