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871-572B-41B4-8BDF-71EAC8753E0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AD06-CF6B-4A0A-B586-CD2D9AC4BAF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E27-8599-4BCE-827B-CA7106BA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F4B-EED9-46E6-802F-8966EEBA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1A4-46C6-4F74-AB7A-69D8E5BD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386-3C77-41DF-AF25-1D3A4335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E64-C12B-42F9-BE7A-794E9FEE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576-41BA-4747-8090-07C56FC6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5B8-77BC-47B3-919C-E7F49C4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4D7-C1A0-432B-86A9-FA5D97F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768-8EBB-4572-97DC-75DDF68F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A1B-3077-4BEA-9E90-3D9F906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06F-18ED-4F2C-9692-AAEEA374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A79-8A14-44A1-91EB-8E4F3723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E7F9-B713-4C61-A4EE-FEB7830DD94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Program Files\Common Files\Microsoft Shared\Clipart\cagcat50\PE01686_.wmf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8580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693432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emberke</cp:lastModifiedBy>
  <dcterms:modified xsi:type="dcterms:W3CDTF">2012-03-12T12:11:58Z</dcterms:modified>
  <cp:revision>8</cp:revision>
  <dc:subject>ECDL</dc:subject>
  <dc:title>Prezentáció forrás, 21.feladat</dc:title>
</cp:coreProperties>
</file>