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88D-BA16-41BE-9BFC-C94A6950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E87-2F15-45ED-91EB-7851158E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3A0-7D6A-4FA8-8228-1FDB68F7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870-07DC-4F81-89E0-C3666690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3B1-6359-4A39-9855-CB1E6720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C75-0681-4EE4-8419-E887519B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51B-1EB5-4D0A-84A3-F52E4EE2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E7F-542D-40EF-A1B8-03D4041A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40E-BE6F-4700-8F81-DD81D52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A78-6529-4AE5-BBB0-C73EEFA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ECE-C66E-4FD1-9644-C770A30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E55-9041-4187-AE4B-3C635CD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6D6-253E-434B-9A90-1EE089B9EA5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Program Files\Common Files\Microsoft Shared\Clipart\cagcat50\NA00826_.wmf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Program Files\Common Files\Microsoft Shared\Clipart\cagcat50\SO01038_.wmf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676520" y="19810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3657600" y="327672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5715000" y="44956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NJSZT</dc:creator>
  <dc:description/>
  <dc:language>en-US</dc:language>
  <cp:lastModifiedBy>Virga Mariann</cp:lastModifiedBy>
  <dcterms:modified xsi:type="dcterms:W3CDTF">2012-03-24T15:19:30Z</dcterms:modified>
  <cp:revision>11</cp:revision>
  <dc:subject>ECDL</dc:subject>
  <dc:title>Prezentáció forrás, 80.feladat</dc:title>
</cp:coreProperties>
</file>