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96F-2021-44A2-AA67-710082C1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95C-B195-41F0-8CF0-BCAC4E21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325-D920-4E44-8ECB-39716957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D16-6808-4A5D-AA14-94C09BFD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DC2-CA02-4F0E-A86F-5420FA51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90E-E1D3-451A-BAAD-8E8E9FCD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479-12AB-4054-9D02-0600C24B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A15-660D-4B8E-807F-27DB01D1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56A-2767-410F-9093-DA01354B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94F-A9A5-4323-BEF7-BB297310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C34-6685-4528-A76C-28C4778B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FE4-B67B-4DB5-B189-D32CBD13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B959-C83D-49E2-843C-0C2CF2A2A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8840" y="639720"/>
            <a:ext cx="754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XXX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hu-HU" sz="18000" spc="-1" strike="noStrike">
                <a:solidFill>
                  <a:srgbClr val="000000"/>
                </a:solidFill>
                <a:latin typeface="Times New Roman"/>
              </a:rPr>
              <a:t>zzéri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45910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105000"/>
            <a:ext cx="609588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9334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7624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zz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jtos, 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öldsé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ogn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sványví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énsava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o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zer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ztenyepü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gylaltkeh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0240" y="2754360"/>
            <a:ext cx="62668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itvatartá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–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00–2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–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–2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ztalfoglalás és megrendelés: (10) 123-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23:51Z</dcterms:created>
  <dc:creator>NJSZT</dc:creator>
  <dc:description/>
  <dc:language>en-US</dc:language>
  <cp:lastModifiedBy>.</cp:lastModifiedBy>
  <dcterms:modified xsi:type="dcterms:W3CDTF">2003-05-24T21:34:15Z</dcterms:modified>
  <cp:revision>6</cp:revision>
  <dc:subject>ECDL</dc:subject>
  <dc:title>Prezentáció forrás, 6.feladat</dc:title>
</cp:coreProperties>
</file>