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0300-748F-4186-A7E0-E7323CC0A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5DCA-90A9-46E7-A5D8-10074CE9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FC61-143D-4E65-BFC5-FDBA2A7DC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C2D5-24B6-40F1-98F0-5800FFDAD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FC36-7C56-4258-969E-17958DDB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8D04-6254-4F48-BA5D-7BEADF904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64DB-4FA3-4311-B893-D6182A74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A96B-BE10-409B-9203-9309B3AD3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B24C-ED40-4D7B-8A29-0BAE9C267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0006-BDB0-47A2-9D78-DEF9619D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1654-5A1E-4CC1-8E4F-B1D956C1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9BEE-0C49-49C3-9E1E-C41AF9D8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ÁROSI 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8660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cc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ABBE-75FC-464E-92CD-4C4E007039B4}" type="datetime">
              <a:rPr b="0" lang="hu-HU" sz="1400" spc="-1" strike="noStrike">
                <a:solidFill>
                  <a:srgbClr val="ffcccc"/>
                </a:solidFill>
                <a:latin typeface="Arial"/>
              </a:rPr>
              <a:t>26.07.28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61944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cc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C8A4-79FE-47B0-8578-9D50F0FF0AEC}" type="slidenum">
              <a:rPr b="0" lang="hu-HU" sz="1400" spc="-1" strike="noStrike">
                <a:solidFill>
                  <a:srgbClr val="ffcc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Dátum helye 3"/>
          <p:cNvSpPr/>
          <p:nvPr/>
        </p:nvSpPr>
        <p:spPr>
          <a:xfrm>
            <a:off x="708660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083A-BF4C-4074-AC15-FC4DF0691D72}" type="datetime">
              <a:rPr b="0" lang="hu-HU" sz="1400" spc="-1" strike="noStrike">
                <a:solidFill>
                  <a:srgbClr val="ffcccc"/>
                </a:solidFill>
                <a:latin typeface="Arial"/>
              </a:rPr>
              <a:t>26.07.28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z oldalak tartal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001 Tartalomjegyzé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002 TV-mű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003 Hirde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004 Helyi hír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005 Hírek a nagyvilágbó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Dátum helye 3"/>
          <p:cNvSpPr/>
          <p:nvPr/>
        </p:nvSpPr>
        <p:spPr>
          <a:xfrm>
            <a:off x="708660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9434-3A14-4502-8495-6E8CADEACEC6}" type="datetime">
              <a:rPr b="0" lang="hu-HU" sz="1400" spc="-1" strike="noStrike">
                <a:solidFill>
                  <a:srgbClr val="ffcccc"/>
                </a:solidFill>
                <a:latin typeface="Arial"/>
              </a:rPr>
              <a:t>26.07.28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A városi TV mai műso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17.00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írek, időjár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17.20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Városunk az elmúlt 10 évben – </a:t>
            </a:r>
            <a:r>
              <a:rPr b="0" i="1" lang="hu-HU" sz="3200" spc="-1" strike="noStrike">
                <a:solidFill>
                  <a:srgbClr val="000000"/>
                </a:solidFill>
                <a:latin typeface="Times New Roman"/>
              </a:rPr>
              <a:t>dokumentumfi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19.00 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Hír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19.10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Reklá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19.20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Mesefil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51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20.00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z éj leple alatt – </a:t>
            </a:r>
            <a:r>
              <a:rPr b="0" i="1" lang="hu-HU" sz="3200" spc="-1" strike="noStrike">
                <a:solidFill>
                  <a:srgbClr val="000000"/>
                </a:solidFill>
                <a:latin typeface="Times New Roman"/>
              </a:rPr>
              <a:t>amerikai kri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átum helye 3"/>
          <p:cNvSpPr/>
          <p:nvPr/>
        </p:nvSpPr>
        <p:spPr>
          <a:xfrm>
            <a:off x="708660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07C1-1C69-4939-BF2C-BC7B2167C62C}" type="datetime">
              <a:rPr b="0" lang="hu-HU" sz="1400" spc="-1" strike="noStrike">
                <a:solidFill>
                  <a:srgbClr val="ffcccc"/>
                </a:solidFill>
                <a:latin typeface="Arial"/>
              </a:rPr>
              <a:t>26.07.28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Hirdet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Belvárosi, 3 szobás, gázfűtéses lakás eladó. Tel.: 111-1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zürke perzsacicák eladók. Tel.: 222-2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Angol nyelvből korrepetálást vállalok. Tel.: 333-3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Times New Roman"/>
              </a:rPr>
              <a:t>Skoda Favorit, megkímélt állapotban eladó. Tel.: 444-4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C:\Program Files\Common Files\Microsoft Shared\Clipart\cagcat50\BD04918_.WMF"/>
          <p:cNvPicPr/>
          <p:nvPr/>
        </p:nvPicPr>
        <p:blipFill>
          <a:blip r:embed="rId1"/>
          <a:stretch/>
        </p:blipFill>
        <p:spPr>
          <a:xfrm>
            <a:off x="3162240" y="2038320"/>
            <a:ext cx="2819520" cy="2779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átum helye 3"/>
          <p:cNvSpPr/>
          <p:nvPr/>
        </p:nvSpPr>
        <p:spPr>
          <a:xfrm>
            <a:off x="708660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3EEE8-3582-43DD-B2CC-BF188B65C2CC}" type="datetime">
              <a:rPr b="0" lang="hu-HU" sz="1400" spc="-1" strike="noStrike">
                <a:solidFill>
                  <a:srgbClr val="ffcccc"/>
                </a:solidFill>
                <a:latin typeface="Arial"/>
              </a:rPr>
              <a:t>26.07.28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Helyi hír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Dátum helye 3"/>
          <p:cNvSpPr/>
          <p:nvPr/>
        </p:nvSpPr>
        <p:spPr>
          <a:xfrm>
            <a:off x="708660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5A20-FF57-4DB9-A195-E9E43794CA6F}" type="datetime">
              <a:rPr b="0" lang="hu-HU" sz="1400" spc="-1" strike="noStrike">
                <a:solidFill>
                  <a:srgbClr val="ffcccc"/>
                </a:solidFill>
                <a:latin typeface="Arial"/>
              </a:rPr>
              <a:t>26.07.28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Hírek a nagyvilágbó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Dátum helye 3"/>
          <p:cNvSpPr/>
          <p:nvPr/>
        </p:nvSpPr>
        <p:spPr>
          <a:xfrm>
            <a:off x="708660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782AA-99F5-41E5-9B7C-6A86FC7633AA}" type="datetime">
              <a:rPr b="0" lang="hu-HU" sz="1400" spc="-1" strike="noStrike">
                <a:solidFill>
                  <a:srgbClr val="ffcccc"/>
                </a:solidFill>
                <a:latin typeface="Arial"/>
              </a:rPr>
              <a:t>26.07.28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Times New Roman"/>
              </a:rPr>
              <a:t>Nézettségünk az elmúlt hé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3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49:37Z</dcterms:created>
  <dc:creator>.</dc:creator>
  <dc:description/>
  <dc:language>en-US</dc:language>
  <cp:lastModifiedBy>Mariann</cp:lastModifiedBy>
  <dcterms:modified xsi:type="dcterms:W3CDTF">2015-10-13T19:08:59Z</dcterms:modified>
  <cp:revision>6</cp:revision>
  <dc:subject/>
  <dc:title>Az oldalak tartalma</dc:title>
</cp:coreProperties>
</file>