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D44A-03EE-4B17-A382-A48213F08BA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6393-21BE-445B-A8F4-7312468C03D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Microsoft Office alkalmazásokkal kapcsolatban felmerülő kérdéseinkkel forduljunk először az Office Segédhez, majd olvassuk el a </a:t>
            </a:r>
            <a:r>
              <a:rPr b="0" i="1" lang="hu-HU" sz="1200" spc="-1" strike="noStrike">
                <a:solidFill>
                  <a:srgbClr val="000000"/>
                </a:solidFill>
                <a:latin typeface="Times New Roman"/>
              </a:rPr>
              <a:t>Bevezetés a Microsoft Office 2000 használatába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című kézikönyvet, vagy az alkalmazásokhoz mellékelt, a legfrissebb információkat tartalmazó "Olvassa.el" fáj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E8F-0FFE-41BC-AC1A-EB6336D0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835-B924-4CAC-ADAA-9C62E265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942-856E-454F-8737-E202023F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4FB-EEFC-415E-8019-0027FD3B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37B-F7E0-47DC-9052-367AB5E5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716-3884-487D-8936-50BE677E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4EF-AF2C-43AA-95E6-136B481C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AEE-4DC7-4AD2-B6A5-CFB976B6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2A9-91C0-4819-862D-B324E21C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ABF-8256-4BCB-963C-9C7CD820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B69-FD6B-4DC3-93FD-4F08C091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749-B6E7-440E-88C9-DBEE1F8A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9293-3BC0-4275-AE47-A8E6914FA96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XXX BEVÁSÁRLÓKÖZP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641920" y="1371600"/>
            <a:ext cx="249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Élelmi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Illat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C:\Program Files\Common Files\Microsoft Shared\Clipart\cagcat50\BD08911_.WMF"/>
          <p:cNvPicPr/>
          <p:nvPr/>
        </p:nvPicPr>
        <p:blipFill>
          <a:blip r:embed="rId1"/>
          <a:stretch/>
        </p:blipFill>
        <p:spPr>
          <a:xfrm>
            <a:off x="5181480" y="3451320"/>
            <a:ext cx="11480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03000" y="1139760"/>
            <a:ext cx="397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Konyha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Köny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Ját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Papír-író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C:\Program Files\Common Files\Microsoft Shared\Clipart\cagcat50\BS00975_.wmf"/>
          <p:cNvPicPr/>
          <p:nvPr/>
        </p:nvPicPr>
        <p:blipFill>
          <a:blip r:embed="rId1"/>
          <a:stretch/>
        </p:blipFill>
        <p:spPr>
          <a:xfrm>
            <a:off x="4648320" y="3809880"/>
            <a:ext cx="4419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955760" y="1139760"/>
            <a:ext cx="408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Férfi és női ruház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Cip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Ruházati kell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Sport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C:\Program Files\Common Files\Microsoft Shared\Clipart\cagcat50\PE01686_.wmf"/>
          <p:cNvPicPr/>
          <p:nvPr/>
        </p:nvPicPr>
        <p:blipFill>
          <a:blip r:embed="rId1"/>
          <a:stretch/>
        </p:blipFill>
        <p:spPr>
          <a:xfrm>
            <a:off x="5294160" y="3429000"/>
            <a:ext cx="3148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956840" y="1139760"/>
            <a:ext cx="374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TV, vid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Hi-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Számítástechn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CD, D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81160" y="2819520"/>
          <a:ext cx="6781680" cy="3047760"/>
        </p:xfrm>
        <a:graphic>
          <a:graphicData uri="http://schemas.openxmlformats.org/drawingml/2006/table">
            <a:tbl>
              <a:tblPr/>
              <a:tblGrid>
                <a:gridCol w="2260440"/>
                <a:gridCol w="2260800"/>
                <a:gridCol w="226044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i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r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étköz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omb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ár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95560" y="1066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A bevásárlóközpont </a:t>
            </a:r>
            <a:br>
              <a:rPr sz="4400"/>
            </a:b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nyitva tartási idej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685800" y="990720"/>
            <a:ext cx="1523880" cy="1371600"/>
          </a:xfrm>
          <a:prstGeom prst="pie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2"/>
          <p:cNvSpPr/>
          <p:nvPr/>
        </p:nvSpPr>
        <p:spPr>
          <a:xfrm>
            <a:off x="6934320" y="990720"/>
            <a:ext cx="1523880" cy="1371600"/>
          </a:xfrm>
          <a:prstGeom prst="pie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62120" y="28954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található a Könyves és a Fehér út kereszteződésé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39:48Z</dcterms:created>
  <dc:creator>NJSZT</dc:creator>
  <dc:description/>
  <dc:language>en-US</dc:language>
  <cp:lastModifiedBy>emberke</cp:lastModifiedBy>
  <dcterms:modified xsi:type="dcterms:W3CDTF">2012-03-12T12:11:58Z</dcterms:modified>
  <cp:revision>8</cp:revision>
  <dc:subject>ECDL</dc:subject>
  <dc:title>Prezentáció forrás, 21.feladat</dc:title>
</cp:coreProperties>
</file>