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CE2D-2CCA-483E-B187-19C8F0C53A3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103F-57E5-48D0-85D1-42FDDF5DF3B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kedvezmény mértéke 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9F2-E055-427E-88AD-5883F31E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FEA-DBD3-424F-8F48-C2AEBD72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B21-41A8-4C99-952A-CDF5991F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13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856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213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856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28A-F356-4FB5-BC7E-BA313388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0A9-F693-47C0-9351-DBE812B1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102-5438-4169-B1C1-295CA046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622-D7F8-48C6-8577-AC849CE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084-5CD0-46C1-B242-53173F77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693-0106-4172-ACE8-3A28371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A38-49A7-4CF7-B1F6-C57A6229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B25-8FE2-42C9-9AD7-BC81B88A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6A2-7476-479E-9F5E-679EB39C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B33B-CB50-4D41-9BDD-FCBBD7A0FFC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33520" y="0"/>
            <a:ext cx="1038240" cy="6095880"/>
          </a:xfrm>
          <a:prstGeom prst="rect">
            <a:avLst/>
          </a:prstGeom>
          <a:solidFill>
            <a:srgbClr val="ffc000"/>
          </a:solidFill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2895480" y="265284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adónk tankönyvek, ismeretterjesztő kiadványok, lexikonok kiadásával foglalk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629400" y="4495680"/>
            <a:ext cx="20700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ddig megjelent kiadvány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gék és mondák (történelmi olvasókönyv általános iskolásokn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fiz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biológi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matemat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ológiai kislexi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3"/>
          <p:cNvSpPr/>
          <p:nvPr/>
        </p:nvSpPr>
        <p:spPr>
          <a:xfrm>
            <a:off x="2743200" y="1523880"/>
            <a:ext cx="5715000" cy="38102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iszonteladók és iskolák kedvezménnyel vásárolhatn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895480" y="265284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eresse fel bemutatóüzletünket a kiadóná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8:14:40Z</dcterms:created>
  <dc:creator>NJSZT</dc:creator>
  <dc:description/>
  <dc:language>en-US</dc:language>
  <cp:lastModifiedBy>diak</cp:lastModifiedBy>
  <dcterms:modified xsi:type="dcterms:W3CDTF">2015-09-15T07:19:18Z</dcterms:modified>
  <cp:revision>9</cp:revision>
  <dc:subject>ECDL</dc:subject>
  <dc:title>Prezentáció forrás, 40.feladat</dc:title>
</cp:coreProperties>
</file>