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7F9-EF17-4646-BB6C-E293A64E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473-C678-4EC7-B753-4740480B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8A4-D0BA-4F33-9C71-86DB5E5C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B59-789F-4B5D-96F6-59A43EA4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DC7-8AA5-4491-947E-0C933C6C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93D-40D7-4C22-8075-D15242FE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8A6-796B-4454-8FBD-36644F1E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E7E-631C-4CCA-9D39-23A3B394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0756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192-6DF7-4FA4-BEAC-A9F5DD27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F65-E7BA-47CD-A418-E9253435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843-437B-4819-B5AF-EDC1D693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94D-408C-461C-8412-4F31A1D5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be0e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F5C8-25FA-44CA-B8E1-1FC163872C0D}" type="slidenum">
              <a:rPr b="0" lang="hu-HU" sz="14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Naprendszer"/>
          <p:cNvPicPr/>
          <p:nvPr/>
        </p:nvPicPr>
        <p:blipFill>
          <a:blip r:embed="rId2"/>
          <a:stretch/>
        </p:blipFill>
        <p:spPr>
          <a:xfrm>
            <a:off x="774720" y="189000"/>
            <a:ext cx="75945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4"/>
          <p:cNvSpPr/>
          <p:nvPr/>
        </p:nvSpPr>
        <p:spPr>
          <a:xfrm>
            <a:off x="0" y="4746600"/>
            <a:ext cx="16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25"/>
          <p:cNvSpPr/>
          <p:nvPr/>
        </p:nvSpPr>
        <p:spPr>
          <a:xfrm>
            <a:off x="0" y="4746600"/>
            <a:ext cx="16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bbe0e3"/>
                </a:solidFill>
                <a:latin typeface="Arial"/>
              </a:rPr>
              <a:t>A bolygók főbb adatai a Földhöz viszonyítva</a:t>
            </a:r>
            <a:endParaRPr b="0" lang="en-US" sz="40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050920" y="2492280"/>
          <a:ext cx="4969080" cy="3529080"/>
        </p:xfrm>
        <a:graphic>
          <a:graphicData uri="http://schemas.openxmlformats.org/drawingml/2006/table">
            <a:tbl>
              <a:tblPr/>
              <a:tblGrid>
                <a:gridCol w="1243080"/>
                <a:gridCol w="1241640"/>
                <a:gridCol w="1242720"/>
                <a:gridCol w="1241640"/>
              </a:tblGrid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Bolyg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Egyenlítői</a:t>
                      </a:r>
                      <a:br>
                        <a:rPr sz="1200"/>
                      </a:b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átmér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Töm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Keringési id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Merkú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3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Vén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9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Fö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M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Jupi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3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1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Szaturn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9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29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Urán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3,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84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Neptun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3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64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Rectangle 309"/>
          <p:cNvSpPr/>
          <p:nvPr/>
        </p:nvSpPr>
        <p:spPr>
          <a:xfrm>
            <a:off x="0" y="4746600"/>
            <a:ext cx="16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be0e3"/>
                </a:solidFill>
                <a:latin typeface="Arial"/>
              </a:rPr>
              <a:t>A Naprendszer bolygói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Kőzetbolygók: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Merkúr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Vénusz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Föld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Gázbolygók: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Szaturnusz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Uránusz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Neptunusz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Plútó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8:26:57Z</dcterms:created>
  <dc:creator>afg</dc:creator>
  <dc:description/>
  <dc:language>en-US</dc:language>
  <cp:lastModifiedBy>Mariann</cp:lastModifiedBy>
  <dcterms:modified xsi:type="dcterms:W3CDTF">2015-10-06T18:25:07Z</dcterms:modified>
  <cp:revision>8</cp:revision>
  <dc:subject/>
  <dc:title>1. dia</dc:title>
</cp:coreProperties>
</file>