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F39-D7C8-40A0-B4F8-15A74B3E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B16-E5B1-48CF-B359-6A33FCB3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5A3-048E-447D-9A9E-BCDF6ABE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3FF-3DA0-49F4-82D8-3215C3DB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ED3-3194-4AE1-85DC-2744EE97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1D2-E7D4-417D-87E4-58E60776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51CA-0D4C-4BDB-A111-3CABECEC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7F4-3254-4B38-9E62-35EBEC6B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28640"/>
            <a:ext cx="82296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A69-4FBA-4F67-8671-3BE5D28F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CB6-D49D-4B03-B9F4-7551CC5B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1AD-4986-4AAA-B15B-7C102FE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FD6-038B-45B6-BC4D-13C4F5B6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BF71-2D49-4A0E-ABE8-4328E145996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7"/>
          <p:cNvSpPr/>
          <p:nvPr/>
        </p:nvSpPr>
        <p:spPr>
          <a:xfrm>
            <a:off x="142920" y="189000"/>
            <a:ext cx="431640" cy="43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val 8"/>
          <p:cNvSpPr/>
          <p:nvPr/>
        </p:nvSpPr>
        <p:spPr>
          <a:xfrm>
            <a:off x="647640" y="189000"/>
            <a:ext cx="432000" cy="431640"/>
          </a:xfrm>
          <a:prstGeom prst="ellipse">
            <a:avLst/>
          </a:prstGeom>
          <a:solidFill>
            <a:srgbClr val="ff8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9"/>
          <p:cNvSpPr/>
          <p:nvPr/>
        </p:nvSpPr>
        <p:spPr>
          <a:xfrm>
            <a:off x="1150920" y="189000"/>
            <a:ext cx="43164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10"/>
          <p:cNvSpPr/>
          <p:nvPr/>
        </p:nvSpPr>
        <p:spPr>
          <a:xfrm>
            <a:off x="1655640" y="189000"/>
            <a:ext cx="432000" cy="431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11"/>
          <p:cNvSpPr/>
          <p:nvPr/>
        </p:nvSpPr>
        <p:spPr>
          <a:xfrm>
            <a:off x="2158920" y="189000"/>
            <a:ext cx="432000" cy="431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2"/>
          <p:cNvSpPr/>
          <p:nvPr/>
        </p:nvSpPr>
        <p:spPr>
          <a:xfrm>
            <a:off x="2664000" y="18900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3"/>
          <p:cNvSpPr/>
          <p:nvPr/>
        </p:nvSpPr>
        <p:spPr>
          <a:xfrm>
            <a:off x="3166920" y="18900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23"/>
          <p:cNvSpPr/>
          <p:nvPr/>
        </p:nvSpPr>
        <p:spPr>
          <a:xfrm>
            <a:off x="3672000" y="18900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728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611280" y="2349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ezdeti pozí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golyók pontérték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golyó: 7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ózsaszín golyó: 6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k golyó: 5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arna golyó: 4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Zöld golyó: 3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árga golyó: 2 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2864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z utóbbi 20 év neves játékos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phen He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eve Dav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onnie O'Sulli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rk Willi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n Do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eter Eb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raeme D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aun Mur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thew Stev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immy 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9:07:41Z</dcterms:created>
  <dc:creator>afg</dc:creator>
  <dc:description/>
  <dc:language>en-US</dc:language>
  <cp:lastModifiedBy>Mariann</cp:lastModifiedBy>
  <dcterms:modified xsi:type="dcterms:W3CDTF">2013-09-08T12:33:51Z</dcterms:modified>
  <cp:revision>8</cp:revision>
  <dc:subject/>
  <dc:title>1. dia</dc:title>
</cp:coreProperties>
</file>