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6B0-F7EC-42C0-9FEA-C36E0AF0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1F6-24E7-42C4-8112-7DDF20D6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208-D36F-4F01-AE58-08D0A31C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584-F0BE-4169-B50B-06452D61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E0F-2338-4F19-B1E0-651B698F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59A-ECB2-4A4C-8B99-2A222F89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271-C525-429A-BDE2-AB62157D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595-7B1E-4A50-916A-A4F64CE9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ECA-E304-4E96-850B-F779F6F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F75-0E24-44E8-924B-F676575D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2E1-35E8-426B-B58B-CAFF479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0C5-7CEC-458F-A673-40D67DD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12E-BB84-4E09-A841-949E00FDBD8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Program Files\Common Files\Microsoft Shared\Clipart\cagcat50\NA00864_.wmf"/>
          <p:cNvPicPr/>
          <p:nvPr/>
        </p:nvPicPr>
        <p:blipFill>
          <a:blip r:embed="rId1"/>
          <a:stretch/>
        </p:blipFill>
        <p:spPr>
          <a:xfrm>
            <a:off x="3581280" y="4343400"/>
            <a:ext cx="2265480" cy="195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időjár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:\Program Files\Common Files\Microsoft Shared\Clipart\cagcat50\NA00826_.wmf"/>
          <p:cNvPicPr/>
          <p:nvPr/>
        </p:nvPicPr>
        <p:blipFill>
          <a:blip r:embed="rId2"/>
          <a:stretch/>
        </p:blipFill>
        <p:spPr>
          <a:xfrm>
            <a:off x="4343400" y="3352680"/>
            <a:ext cx="149868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Program Files\Common Files\Microsoft Shared\Clipart\cagcat50\SO01038_.wmf"/>
          <p:cNvPicPr/>
          <p:nvPr/>
        </p:nvPicPr>
        <p:blipFill>
          <a:blip r:embed="rId3"/>
          <a:stretch/>
        </p:blipFill>
        <p:spPr>
          <a:xfrm>
            <a:off x="3124080" y="3657600"/>
            <a:ext cx="16210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Időjárás-jelentés készít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és, adatgyűjt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 értékelése, analizál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nos időjárás-jelentések elkész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1143000"/>
            <a:ext cx="220968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40160" y="2387520"/>
            <a:ext cx="2209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546440" y="3632040"/>
            <a:ext cx="221004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f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553080" y="4876920"/>
            <a:ext cx="22100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jelen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676520" y="19810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3657600" y="3276720"/>
            <a:ext cx="838080" cy="83808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5715000" y="44956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mérés eszköz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színi mérőállom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ű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ádiósz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os csapadékmennyisé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hőmérséklet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40:41Z</dcterms:created>
  <dc:creator>NJSZT</dc:creator>
  <dc:description/>
  <dc:language>en-US</dc:language>
  <cp:lastModifiedBy>Virga Mariann</cp:lastModifiedBy>
  <dcterms:modified xsi:type="dcterms:W3CDTF">2012-03-24T15:19:30Z</dcterms:modified>
  <cp:revision>11</cp:revision>
  <dc:subject>ECDL</dc:subject>
  <dc:title>Prezentáció forrás, 80.feladat</dc:title>
</cp:coreProperties>
</file>