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B3B-EB9A-4583-A71C-E660D6A0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775-4051-4B06-BB7C-F96ACD87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CB3-B762-4C5E-B93E-445396E8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761-D532-47A3-B650-BDA8B62C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EB6-D343-408A-822E-6EE5C30B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23E-8580-44BB-90A2-50E5A453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038-F64F-4D1E-BA12-5F34DF0C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5FD-4978-4825-A65E-37AB566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C86-DA5F-4D48-8752-59607217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A06-FC2D-4015-8AA8-98DA050A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97E-1504-44B0-B425-2617BA89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D3C-3E31-4E82-AFC2-ECDB4917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B5AE-B0D4-4E55-B27B-62289A760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8840" y="639720"/>
            <a:ext cx="754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XXX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hu-HU" sz="18000" spc="-1" strike="noStrike">
                <a:solidFill>
                  <a:srgbClr val="000000"/>
                </a:solidFill>
                <a:latin typeface="Times New Roman"/>
              </a:rPr>
              <a:t>zzéri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45910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105000"/>
            <a:ext cx="609588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9334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7624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z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jtos, 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öldsé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ogn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sványví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énsava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o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z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ztenyepü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gylaltkeh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0240" y="2754360"/>
            <a:ext cx="62668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itvatartá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–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–2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–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–2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ztalfoglalás és megrendelés: (10) 123-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23:51Z</dcterms:created>
  <dc:creator>NJSZT</dc:creator>
  <dc:description/>
  <dc:language>en-US</dc:language>
  <cp:lastModifiedBy>.</cp:lastModifiedBy>
  <dcterms:modified xsi:type="dcterms:W3CDTF">2003-05-24T21:34:15Z</dcterms:modified>
  <cp:revision>6</cp:revision>
  <dc:subject>ECDL</dc:subject>
  <dc:title>Prezentáció forrás, 6.feladat</dc:title>
</cp:coreProperties>
</file>