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6D1C-0811-47E3-9774-D9E92BB6A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1E77-4000-4DB3-A1C3-B412AE5E6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0E3D-0A39-4773-A340-0FE9488A8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EF1A-1AE8-46C1-9880-5831572EC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F6D4-D918-4927-99D2-377118527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20CC-6FBE-4E0C-8C86-7BFB40D0E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58BA-D52D-4F67-95FD-ADEB31587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6C03-CDC9-4632-B227-9B123CB17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9027-036E-4C8D-BE40-2DEEF79C5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A547-F860-4C82-A121-D0582F7D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22B0-05D7-4A45-9FAD-370D6A23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54E1-032E-4D53-959E-8A9C8133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VÁROSI T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8660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cc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2AA74-27A8-4BDB-A5AD-8B49CE3F4382}" type="datetime">
              <a:rPr b="0" lang="hu-HU" sz="1400" spc="-1" strike="noStrike">
                <a:solidFill>
                  <a:srgbClr val="ffcccc"/>
                </a:solidFill>
                <a:latin typeface="Arial"/>
              </a:rPr>
              <a:t>26.07.29.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61944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cc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3E11B-D036-4DF3-9ECC-540BC152D92D}" type="slidenum">
              <a:rPr b="0" lang="hu-HU" sz="1400" spc="-1" strike="noStrike">
                <a:solidFill>
                  <a:srgbClr val="ffcc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Dátum helye 3"/>
          <p:cNvSpPr/>
          <p:nvPr/>
        </p:nvSpPr>
        <p:spPr>
          <a:xfrm>
            <a:off x="708660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C8A2E-0EE8-4EB1-9E38-36FC4F83F1F8}" type="datetime">
              <a:rPr b="0" lang="hu-HU" sz="1400" spc="-1" strike="noStrike">
                <a:solidFill>
                  <a:srgbClr val="ffcccc"/>
                </a:solidFill>
                <a:latin typeface="Arial"/>
              </a:rPr>
              <a:t>26.07.29.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z oldalak tartal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001 Tartalomjegyzé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002 TV-műs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003 Hirdet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004 Helyi hír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005 Hírek a nagyvilágbó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Dátum helye 3"/>
          <p:cNvSpPr/>
          <p:nvPr/>
        </p:nvSpPr>
        <p:spPr>
          <a:xfrm>
            <a:off x="708660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B6FE8-20F5-47D1-A7DA-E8BE0B59A2DB}" type="datetime">
              <a:rPr b="0" lang="hu-HU" sz="1400" spc="-1" strike="noStrike">
                <a:solidFill>
                  <a:srgbClr val="ffcccc"/>
                </a:solidFill>
                <a:latin typeface="Arial"/>
              </a:rPr>
              <a:t>26.07.29.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városi TV mai műso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51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17.00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írek, időjár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51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17.20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Városunk az elmúlt 10 évben – </a:t>
            </a:r>
            <a:r>
              <a:rPr b="0" i="1" lang="hu-HU" sz="3200" spc="-1" strike="noStrike">
                <a:solidFill>
                  <a:srgbClr val="000000"/>
                </a:solidFill>
                <a:latin typeface="Times New Roman"/>
              </a:rPr>
              <a:t>dokumentumfil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51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19.00 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ír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51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19.10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Reklá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51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19.20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esefil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51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20.00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éj leple alatt – </a:t>
            </a:r>
            <a:r>
              <a:rPr b="0" i="1" lang="hu-HU" sz="3200" spc="-1" strike="noStrike">
                <a:solidFill>
                  <a:srgbClr val="000000"/>
                </a:solidFill>
                <a:latin typeface="Times New Roman"/>
              </a:rPr>
              <a:t>amerikai kri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átum helye 3"/>
          <p:cNvSpPr/>
          <p:nvPr/>
        </p:nvSpPr>
        <p:spPr>
          <a:xfrm>
            <a:off x="708660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1AB3D-2EB0-407D-8DF3-220C0A441CFE}" type="datetime">
              <a:rPr b="0" lang="hu-HU" sz="1400" spc="-1" strike="noStrike">
                <a:solidFill>
                  <a:srgbClr val="ffcccc"/>
                </a:solidFill>
                <a:latin typeface="Arial"/>
              </a:rPr>
              <a:t>26.07.29.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Hirdet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Belvárosi, 3 szobás, gázfűtéses lakás eladó. Tel.: 111-1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zürke perzsacicák eladók. Tel.: 222-22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ngol nyelvből korrepetálást vállalok. Tel.: 333-33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koda Favorit, megkímélt állapotban eladó. Tel.: 444-44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C:\Program Files\Common Files\Microsoft Shared\Clipart\cagcat50\BD04918_.WMF"/>
          <p:cNvPicPr/>
          <p:nvPr/>
        </p:nvPicPr>
        <p:blipFill>
          <a:blip r:embed="rId1"/>
          <a:stretch/>
        </p:blipFill>
        <p:spPr>
          <a:xfrm>
            <a:off x="3162240" y="2038320"/>
            <a:ext cx="2819520" cy="2779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átum helye 3"/>
          <p:cNvSpPr/>
          <p:nvPr/>
        </p:nvSpPr>
        <p:spPr>
          <a:xfrm>
            <a:off x="708660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700D2-E117-4CA3-AB79-82F079310292}" type="datetime">
              <a:rPr b="0" lang="hu-HU" sz="1400" spc="-1" strike="noStrike">
                <a:solidFill>
                  <a:srgbClr val="ffcccc"/>
                </a:solidFill>
                <a:latin typeface="Arial"/>
              </a:rPr>
              <a:t>26.07.29.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Helyi hír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Dátum helye 3"/>
          <p:cNvSpPr/>
          <p:nvPr/>
        </p:nvSpPr>
        <p:spPr>
          <a:xfrm>
            <a:off x="708660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3B258-E7BA-4F49-A5F1-DBE18C5F388F}" type="datetime">
              <a:rPr b="0" lang="hu-HU" sz="1400" spc="-1" strike="noStrike">
                <a:solidFill>
                  <a:srgbClr val="ffcccc"/>
                </a:solidFill>
                <a:latin typeface="Arial"/>
              </a:rPr>
              <a:t>26.07.29.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Hírek a nagyvilágbó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Dátum helye 3"/>
          <p:cNvSpPr/>
          <p:nvPr/>
        </p:nvSpPr>
        <p:spPr>
          <a:xfrm>
            <a:off x="708660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81955-D31E-465C-8F6B-B1D5222F4238}" type="datetime">
              <a:rPr b="0" lang="hu-HU" sz="1400" spc="-1" strike="noStrike">
                <a:solidFill>
                  <a:srgbClr val="ffcccc"/>
                </a:solidFill>
                <a:latin typeface="Arial"/>
              </a:rPr>
              <a:t>26.07.29.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Nézettségünk az elmúlt hé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Object 3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3:49:37Z</dcterms:created>
  <dc:creator>.</dc:creator>
  <dc:description/>
  <dc:language>en-US</dc:language>
  <cp:lastModifiedBy>Mariann</cp:lastModifiedBy>
  <dcterms:modified xsi:type="dcterms:W3CDTF">2015-10-13T19:08:59Z</dcterms:modified>
  <cp:revision>6</cp:revision>
  <dc:subject/>
  <dc:title>Az oldalak tartalma</dc:title>
</cp:coreProperties>
</file>