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C32F-148F-4E31-B701-49E484FD9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1B83-3CEE-4F1C-99A9-22835995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13D4-D16D-4E31-BBFF-768C5E30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8EC5-9615-4CF7-9086-76305AF9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745A-6C4A-4612-BE9E-9FEC8709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FC34-D545-4961-B033-3C08B29B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186C-7953-411F-B5A6-522B32BF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C0D4-E04E-4311-951E-F9272D0C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728640"/>
            <a:ext cx="82296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910C-A02F-4878-B4B0-D46C2D7B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BC0E-5685-4B86-A2ED-DC239000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624B-694F-4581-BBD4-A887DF2D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F45A-17F5-43C8-8578-C891B51A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CECF-2F77-414D-AEE8-C6314F2CE68D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val 7"/>
          <p:cNvSpPr/>
          <p:nvPr/>
        </p:nvSpPr>
        <p:spPr>
          <a:xfrm>
            <a:off x="142920" y="189000"/>
            <a:ext cx="43164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val 8"/>
          <p:cNvSpPr/>
          <p:nvPr/>
        </p:nvSpPr>
        <p:spPr>
          <a:xfrm>
            <a:off x="647640" y="189000"/>
            <a:ext cx="432000" cy="431640"/>
          </a:xfrm>
          <a:prstGeom prst="ellipse">
            <a:avLst/>
          </a:prstGeom>
          <a:solidFill>
            <a:srgbClr val="ff8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9"/>
          <p:cNvSpPr/>
          <p:nvPr/>
        </p:nvSpPr>
        <p:spPr>
          <a:xfrm>
            <a:off x="1150920" y="189000"/>
            <a:ext cx="4316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10"/>
          <p:cNvSpPr/>
          <p:nvPr/>
        </p:nvSpPr>
        <p:spPr>
          <a:xfrm>
            <a:off x="1655640" y="189000"/>
            <a:ext cx="432000" cy="431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val 11"/>
          <p:cNvSpPr/>
          <p:nvPr/>
        </p:nvSpPr>
        <p:spPr>
          <a:xfrm>
            <a:off x="2158920" y="189000"/>
            <a:ext cx="432000" cy="431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12"/>
          <p:cNvSpPr/>
          <p:nvPr/>
        </p:nvSpPr>
        <p:spPr>
          <a:xfrm>
            <a:off x="2664000" y="189000"/>
            <a:ext cx="4316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3"/>
          <p:cNvSpPr/>
          <p:nvPr/>
        </p:nvSpPr>
        <p:spPr>
          <a:xfrm>
            <a:off x="3166920" y="18900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23"/>
          <p:cNvSpPr/>
          <p:nvPr/>
        </p:nvSpPr>
        <p:spPr>
          <a:xfrm>
            <a:off x="3672000" y="18900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640" y="728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611280" y="234936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ezdeti pozíc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A golyók pontérték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ekete golyó: 7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Rózsaszín golyó: 6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ék golyó: 5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arna golyó: 4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Zöld golyó: 3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árga golyó: 2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Az utóbbi 20 év neves játékos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tephen Hend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teve Da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onnie O'Sulli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rk Willi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en Doh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eter Eb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raeme Do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haun Mur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tthew Stev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immy 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09:07:41Z</dcterms:created>
  <dc:creator>afg</dc:creator>
  <dc:description/>
  <dc:language>en-US</dc:language>
  <cp:lastModifiedBy>Mariann</cp:lastModifiedBy>
  <dcterms:modified xsi:type="dcterms:W3CDTF">2013-09-08T12:33:51Z</dcterms:modified>
  <cp:revision>8</cp:revision>
  <dc:subject/>
  <dc:title>1. dia</dc:title>
</cp:coreProperties>
</file>