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EFCA-42CA-4A54-925D-0F73639A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93B4-F11C-4A40-A237-D709313C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7915-159A-4243-AA4A-3B1FD1CA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6E5-3FF0-4D2D-BAB6-10F239FD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F5E5-6EC3-4BD8-B4FD-49EF0B1F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AF08-67B2-4754-8622-DAAD021D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C216-2C77-4A1A-B1EA-D45F9E4B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7872-AA78-4F95-BB86-94C649FB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191-CC27-413A-BF35-3C97B444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F628-1F84-4A87-BA07-530EDEE3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3CA3-F20D-4B45-9762-1D81729F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C00F-9E4D-451F-A6A5-7144ACE0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943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A5FF-ADB4-4888-BAAA-9CED3682D0FD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C:\Program Files\Common Files\Microsoft Shared\Clipart\cagcat50\NA00864_.wmf"/>
          <p:cNvPicPr/>
          <p:nvPr/>
        </p:nvPicPr>
        <p:blipFill>
          <a:blip r:embed="rId1"/>
          <a:stretch/>
        </p:blipFill>
        <p:spPr>
          <a:xfrm>
            <a:off x="3581280" y="4343400"/>
            <a:ext cx="2265480" cy="1955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Az időjárá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C:\Program Files\Common Files\Microsoft Shared\Clipart\cagcat50\NA00826_.wmf"/>
          <p:cNvPicPr/>
          <p:nvPr/>
        </p:nvPicPr>
        <p:blipFill>
          <a:blip r:embed="rId2"/>
          <a:stretch/>
        </p:blipFill>
        <p:spPr>
          <a:xfrm>
            <a:off x="4343400" y="3352680"/>
            <a:ext cx="1498680" cy="1571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Program Files\Common Files\Microsoft Shared\Clipart\cagcat50\SO01038_.wmf"/>
          <p:cNvPicPr/>
          <p:nvPr/>
        </p:nvPicPr>
        <p:blipFill>
          <a:blip r:embed="rId3"/>
          <a:stretch/>
        </p:blipFill>
        <p:spPr>
          <a:xfrm>
            <a:off x="3124080" y="3657600"/>
            <a:ext cx="162108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Időjárás-jelentés készíté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érés, adatgyűjté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datok értékelése, analizálá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Általános időjárás-jelentések elkészíté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533520" y="1143000"/>
            <a:ext cx="220968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é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540160" y="2387520"/>
            <a:ext cx="220968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datgyűj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546440" y="3632040"/>
            <a:ext cx="221004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datfeldolgoz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6553080" y="4876920"/>
            <a:ext cx="221004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egjelen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1676520" y="1981080"/>
            <a:ext cx="838080" cy="838440"/>
          </a:xfrm>
          <a:custGeom>
            <a:avLst/>
            <a:gdLst>
              <a:gd name="textAreaLeft" fmla="*/ 0 w 838080"/>
              <a:gd name="textAreaRight" fmla="*/ 838440 w 8380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528" h="480">
                <a:moveTo>
                  <a:pt x="0" y="0"/>
                </a:moveTo>
                <a:lnTo>
                  <a:pt x="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12"/>
          <p:cNvSpPr/>
          <p:nvPr/>
        </p:nvSpPr>
        <p:spPr>
          <a:xfrm>
            <a:off x="3657600" y="3276720"/>
            <a:ext cx="838080" cy="838080"/>
          </a:xfrm>
          <a:custGeom>
            <a:avLst/>
            <a:gdLst>
              <a:gd name="textAreaLeft" fmla="*/ 0 w 838080"/>
              <a:gd name="textAreaRight" fmla="*/ 838440 w 8380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28" h="480">
                <a:moveTo>
                  <a:pt x="0" y="0"/>
                </a:moveTo>
                <a:lnTo>
                  <a:pt x="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13"/>
          <p:cNvSpPr/>
          <p:nvPr/>
        </p:nvSpPr>
        <p:spPr>
          <a:xfrm>
            <a:off x="5715000" y="4495680"/>
            <a:ext cx="838080" cy="838440"/>
          </a:xfrm>
          <a:custGeom>
            <a:avLst/>
            <a:gdLst>
              <a:gd name="textAreaLeft" fmla="*/ 0 w 838080"/>
              <a:gd name="textAreaRight" fmla="*/ 838440 w 8380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528" h="480">
                <a:moveTo>
                  <a:pt x="0" y="0"/>
                </a:moveTo>
                <a:lnTo>
                  <a:pt x="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A mérés eszköze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elszíni mérőállomá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ű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a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ádiószo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Átlagos csapadékmennyisé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380880" y="1981080"/>
          <a:ext cx="8305920" cy="39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30592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Átlaghőmérséklete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3"/>
          <p:cNvGraphicFramePr/>
          <p:nvPr/>
        </p:nvGraphicFramePr>
        <p:xfrm>
          <a:off x="380880" y="1981080"/>
          <a:ext cx="8305920" cy="39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30592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7:40:41Z</dcterms:created>
  <dc:creator>NJSZT</dc:creator>
  <dc:description/>
  <dc:language>en-US</dc:language>
  <cp:lastModifiedBy>Virga Mariann</cp:lastModifiedBy>
  <dcterms:modified xsi:type="dcterms:W3CDTF">2012-03-24T15:19:30Z</dcterms:modified>
  <cp:revision>11</cp:revision>
  <dc:subject>ECDL</dc:subject>
  <dc:title>Prezentáció forrás, 80.feladat</dc:title>
</cp:coreProperties>
</file>