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F302-5533-4A65-A5BD-A1A963C60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98F6-DB33-4A0F-B7D8-FB6F371E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F459-6354-47AD-BAAA-4F5FA71A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EA6D-4CC6-4678-8E54-D8011298C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DCC1-6823-431F-B540-CA7F0AAC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0614-A99C-4542-90CF-6F54ED1E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99A9-A9BC-4EA1-9D67-AA60877C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2D8A-BAF1-4391-8D76-C9E8B4C7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056D-6942-412C-AC1F-59F0F132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ABAA-D6E3-496B-A75E-230EAF6D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A315-A42B-4BAB-8348-F1CE3567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91F9-FABC-4CF0-863F-CA5C383E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9C1B-FB69-4DC3-8B77-AE7D3B5EF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98840" y="639720"/>
            <a:ext cx="7544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Times New Roman"/>
              </a:rPr>
              <a:t>XXX 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Times New Roman"/>
              </a:rPr>
              <a:t>Pi</a:t>
            </a:r>
            <a:r>
              <a:rPr b="0" lang="hu-HU" sz="18000" spc="-1" strike="noStrike">
                <a:solidFill>
                  <a:srgbClr val="000000"/>
                </a:solidFill>
                <a:latin typeface="Times New Roman"/>
              </a:rPr>
              <a:t>zzéria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47920" y="4591080"/>
            <a:ext cx="6095880" cy="380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3105000"/>
            <a:ext cx="6095880" cy="38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933480"/>
            <a:ext cx="6095880" cy="380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876240"/>
            <a:ext cx="5639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zz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mbá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jtos, gombá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öldsé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wa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0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ogna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al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sványví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Ft/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énsavas üdít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 Ft/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stos üdít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Ft/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szer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ztenyepür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57080"/>
                <a:tab algn="l" pos="3432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gylaltkeh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0240" y="2754360"/>
            <a:ext cx="626688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5520"/>
                <a:tab algn="l" pos="4670280"/>
                <a:tab algn="l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yitvatartá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–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9.00–21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5520"/>
                <a:tab algn="l" pos="4670280"/>
                <a:tab algn="l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zo–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00–23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65520"/>
                <a:tab algn="l" pos="4670280"/>
                <a:tab algn="l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ztalfoglalás és megrendelés: (10) 123-4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9:23:51Z</dcterms:created>
  <dc:creator>NJSZT</dc:creator>
  <dc:description/>
  <dc:language>en-US</dc:language>
  <cp:lastModifiedBy>.</cp:lastModifiedBy>
  <dcterms:modified xsi:type="dcterms:W3CDTF">2003-05-24T21:34:15Z</dcterms:modified>
  <cp:revision>6</cp:revision>
  <dc:subject>ECDL</dc:subject>
  <dc:title>Prezentáció forrás, 6.feladat</dc:title>
</cp:coreProperties>
</file>