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EA0-57A4-4C41-A3ED-11942A7B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42A-D906-44EA-97E7-36BDE9D0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103-EEAA-42E5-A73A-1924D3C3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BAC-729E-4971-97E0-A05C3CCF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E29-4823-4835-AD39-ED8F197E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3C7-DC46-4CCB-96BA-EDF64742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8C2-85B6-491F-AC6D-4A63DCE8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BB8-FB6B-42E4-A16D-2E95AD71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AF1-B0A1-4978-8514-76767B67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A2D-1E17-4179-B02E-6F9513D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274-BBAA-46C3-9D1A-1BF2285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6FC-213C-4520-8952-7B3F97A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4A64-7413-4E8C-9782-A3CAF3063BB7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3E52-DCC3-4441-971A-8D2C4ACD3B0E}" type="slidenum">
              <a:rPr b="0" lang="hu-HU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6861-BDBC-4E00-BA82-5AC4656E7636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0BA5-BF72-417E-846B-F587C78B7017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9031-D1C2-4299-89C3-2913A48F19BA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Program Files\Common Files\Microsoft Shared\Clipart\cagcat50\BD04918_.WMF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F223-A71D-42C7-A132-9093BF3C5942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5343-487A-4045-B754-FF9F6349D389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1B2-E8C5-4172-85EB-BA8BE4BEEBBA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.</dc:creator>
  <dc:description/>
  <dc:language>en-US</dc:language>
  <cp:lastModifiedBy>Mariann</cp:lastModifiedBy>
  <dcterms:modified xsi:type="dcterms:W3CDTF">2015-10-13T19:08:59Z</dcterms:modified>
  <cp:revision>6</cp:revision>
  <dc:subject/>
  <dc:title>Az oldalak tartalma</dc:title>
</cp:coreProperties>
</file>