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7E06-9566-4C18-8C23-014E510D4DFC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BAE4-38FE-40ED-BABC-DEC4B0962B21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A Microsoft Office alkalmazásokkal kapcsolatban felmerülő kérdéseinkkel forduljunk először az Office Segédhez, majd olvassuk el a </a:t>
            </a:r>
            <a:r>
              <a:rPr b="0" i="1" lang="hu-HU" sz="1200" spc="-1" strike="noStrike">
                <a:solidFill>
                  <a:srgbClr val="000000"/>
                </a:solidFill>
                <a:latin typeface="Times New Roman"/>
              </a:rPr>
              <a:t>Bevezetés a Microsoft Office 2000 használatába</a:t>
            </a: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 című kézikönyvet, vagy az alkalmazásokhoz mellékelt, a legfrissebb információkat tartalmazó "Olvassa.el" fáj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7138-67C7-4739-AEE3-27519B84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AF88-8CD0-441A-8467-E4D588D2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46D2-0276-4441-BD8F-5BC211A9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933C-3DAA-4082-91BC-64912D9E4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2C27-AA95-467A-A9DD-74F34355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EA3-614E-43A5-934B-0100377E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C08-635C-40BC-B654-B1F0B66E5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008E-ED71-4337-A76F-AEA76D6B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095-2B71-498E-B2FF-7BF7A895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34D-9C75-4CD8-87A0-FC31025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9D27-7973-4119-B062-36212C3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82B3-D559-4141-9EA3-916D5082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821-CF58-40D9-BCB9-0462CEDD4FC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imes New Roman"/>
              </a:rPr>
              <a:t>XXX BEVÁSÁRLÓKÖZPO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5641920" y="1371600"/>
            <a:ext cx="249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Élelmi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Illat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C:\Program Files\Common Files\Microsoft Shared\Clipart\cagcat50\BD08911_.WMF"/>
          <p:cNvPicPr/>
          <p:nvPr/>
        </p:nvPicPr>
        <p:blipFill>
          <a:blip r:embed="rId1"/>
          <a:stretch/>
        </p:blipFill>
        <p:spPr>
          <a:xfrm>
            <a:off x="5181480" y="3451320"/>
            <a:ext cx="11480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5103000" y="1139760"/>
            <a:ext cx="397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onyha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Köny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Ját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Papír-írósz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7" descr="C:\Program Files\Common Files\Microsoft Shared\Clipart\cagcat50\BS00975_.wmf"/>
          <p:cNvPicPr/>
          <p:nvPr/>
        </p:nvPicPr>
        <p:blipFill>
          <a:blip r:embed="rId1"/>
          <a:stretch/>
        </p:blipFill>
        <p:spPr>
          <a:xfrm>
            <a:off x="4648320" y="3809880"/>
            <a:ext cx="4419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4955760" y="1139760"/>
            <a:ext cx="408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Férfi és női ruház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ip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Ruházati kellé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portfelszerelé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7" descr="C:\Program Files\Common Files\Microsoft Shared\Clipart\cagcat50\PE01686_.wmf"/>
          <p:cNvPicPr/>
          <p:nvPr/>
        </p:nvPicPr>
        <p:blipFill>
          <a:blip r:embed="rId1"/>
          <a:stretch/>
        </p:blipFill>
        <p:spPr>
          <a:xfrm>
            <a:off x="5294160" y="3429000"/>
            <a:ext cx="3148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066680" y="2349360"/>
            <a:ext cx="2519640" cy="540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V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1066680" y="288936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066680" y="3429000"/>
            <a:ext cx="2519640" cy="539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066680" y="3968640"/>
            <a:ext cx="2519640" cy="54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. sz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4956840" y="1139760"/>
            <a:ext cx="3740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TV, vide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Hi-F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Számítástechnik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Times New Roman"/>
              </a:rPr>
              <a:t>CD, DV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1160" y="2819520"/>
          <a:ext cx="6781680" cy="3047760"/>
        </p:xfrm>
        <a:graphic>
          <a:graphicData uri="http://schemas.openxmlformats.org/drawingml/2006/table">
            <a:tbl>
              <a:tblPr/>
              <a:tblGrid>
                <a:gridCol w="2260440"/>
                <a:gridCol w="2260800"/>
                <a:gridCol w="226044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yit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árá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étköz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om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árna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95560" y="106632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A bevásárlóközpont </a:t>
            </a:r>
            <a:br>
              <a:rPr sz="4400"/>
            </a:br>
            <a:r>
              <a:rPr b="0" lang="hu-HU" sz="4400" spc="-1" strike="noStrike">
                <a:solidFill>
                  <a:srgbClr val="ff0000"/>
                </a:solidFill>
                <a:latin typeface="Times New Roman"/>
              </a:rPr>
              <a:t>nyitva tartási idej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AutoShape 31"/>
          <p:cNvSpPr/>
          <p:nvPr/>
        </p:nvSpPr>
        <p:spPr>
          <a:xfrm>
            <a:off x="68580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2"/>
          <p:cNvSpPr/>
          <p:nvPr/>
        </p:nvSpPr>
        <p:spPr>
          <a:xfrm>
            <a:off x="6934320" y="990720"/>
            <a:ext cx="1523880" cy="1371600"/>
          </a:xfrm>
          <a:prstGeom prst="pie">
            <a:avLst/>
          </a:prstGeom>
          <a:solidFill>
            <a:srgbClr val="ffff00"/>
          </a:solidFill>
          <a:ln w="0">
            <a:noFill/>
          </a:ln>
          <a:effectLst>
            <a:outerShdw dist="107932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62120" y="2895480"/>
            <a:ext cx="76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gtalálható a Könyves és a Fehér út kereszteződéséb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6:39:48Z</dcterms:created>
  <dc:creator>NJSZT</dc:creator>
  <dc:description/>
  <dc:language>en-US</dc:language>
  <cp:lastModifiedBy>emberke</cp:lastModifiedBy>
  <dcterms:modified xsi:type="dcterms:W3CDTF">2012-03-12T12:11:58Z</dcterms:modified>
  <cp:revision>8</cp:revision>
  <dc:subject>ECDL</dc:subject>
  <dc:title>Prezentáció forrás, 21.feladat</dc:title>
</cp:coreProperties>
</file>