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4821-1F03-4283-94EE-95DB45FB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8B0C-44B0-46FD-9264-BFA3CF99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77A-A995-4853-92C4-C3003FBC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52D5-6C5C-4692-BD5E-1A3BE462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9AB-5DEC-446F-8B19-CE9A8A54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E5A-B524-43EA-B50B-2E63CFA8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72A-B6FA-4BFC-9A2F-CA4FB432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DB23-1C05-4E36-98CA-12193D32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32C-36D8-4D91-A033-FBED6D66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505-76B6-4094-B8DC-7EE02AFF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EB9-0E31-44A2-8F4B-E3A0A3A7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37F1-FB3C-4273-AA07-401F00CF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6740-E76E-431F-A26A-470C6149312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0" y="38088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Program Files\Common Files\Microsoft Shared\Clipart\cagcat50\NA00864_.wmf"/>
          <p:cNvPicPr/>
          <p:nvPr/>
        </p:nvPicPr>
        <p:blipFill>
          <a:blip r:embed="rId1"/>
          <a:stretch/>
        </p:blipFill>
        <p:spPr>
          <a:xfrm>
            <a:off x="3581280" y="4343400"/>
            <a:ext cx="2265480" cy="1955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z időjárá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C:\Program Files\Common Files\Microsoft Shared\Clipart\cagcat50\NA00826_.wmf"/>
          <p:cNvPicPr/>
          <p:nvPr/>
        </p:nvPicPr>
        <p:blipFill>
          <a:blip r:embed="rId2"/>
          <a:stretch/>
        </p:blipFill>
        <p:spPr>
          <a:xfrm>
            <a:off x="4343400" y="3352680"/>
            <a:ext cx="1498680" cy="1571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Program Files\Common Files\Microsoft Shared\Clipart\cagcat50\SO01038_.wmf"/>
          <p:cNvPicPr/>
          <p:nvPr/>
        </p:nvPicPr>
        <p:blipFill>
          <a:blip r:embed="rId3"/>
          <a:stretch/>
        </p:blipFill>
        <p:spPr>
          <a:xfrm>
            <a:off x="3124080" y="3657600"/>
            <a:ext cx="16210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Időjárás-jelentés készíté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érés, adatgyűjté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datok értékelése, analizálá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Általános időjárás-jelentések elkészíté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533520" y="1143000"/>
            <a:ext cx="220968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é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540160" y="2387520"/>
            <a:ext cx="220968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gyűj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546440" y="3632040"/>
            <a:ext cx="2210040" cy="838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atfeldolgozá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553080" y="4876920"/>
            <a:ext cx="2210040" cy="838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gjelení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1"/>
          <p:cNvSpPr/>
          <p:nvPr/>
        </p:nvSpPr>
        <p:spPr>
          <a:xfrm>
            <a:off x="1676520" y="1981080"/>
            <a:ext cx="838080" cy="83844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2"/>
          <p:cNvSpPr/>
          <p:nvPr/>
        </p:nvSpPr>
        <p:spPr>
          <a:xfrm>
            <a:off x="3657600" y="3276720"/>
            <a:ext cx="838080" cy="83808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13"/>
          <p:cNvSpPr/>
          <p:nvPr/>
        </p:nvSpPr>
        <p:spPr>
          <a:xfrm>
            <a:off x="5715000" y="4495680"/>
            <a:ext cx="838080" cy="838440"/>
          </a:xfrm>
          <a:custGeom>
            <a:avLst/>
            <a:gdLst>
              <a:gd name="textAreaLeft" fmla="*/ 0 w 838080"/>
              <a:gd name="textAreaRight" fmla="*/ 838440 w 83808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528" h="480">
                <a:moveTo>
                  <a:pt x="0" y="0"/>
                </a:moveTo>
                <a:lnTo>
                  <a:pt x="0" y="480"/>
                </a:lnTo>
                <a:lnTo>
                  <a:pt x="52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mérés eszközei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elszíni mérőállomás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űh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a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ádiósz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Átlagos csapadékmennyisé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Átlaghőmérséklete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3"/>
          <p:cNvGraphicFramePr/>
          <p:nvPr/>
        </p:nvGraphicFramePr>
        <p:xfrm>
          <a:off x="380880" y="1981080"/>
          <a:ext cx="830592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30592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7:40:41Z</dcterms:created>
  <dc:creator>NJSZT</dc:creator>
  <dc:description/>
  <dc:language>en-US</dc:language>
  <cp:lastModifiedBy>Virga Mariann</cp:lastModifiedBy>
  <dcterms:modified xsi:type="dcterms:W3CDTF">2012-03-24T15:19:30Z</dcterms:modified>
  <cp:revision>11</cp:revision>
  <dc:subject>ECDL</dc:subject>
  <dc:title>Prezentáció forrás, 80.feladat</dc:title>
</cp:coreProperties>
</file>