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16B9-FDCC-493B-ACF5-292D3A1A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6DA-8FEF-4124-8B1E-FAA7E799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D0AA-D056-4361-B288-44F78FC9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772D-C904-4077-899B-CA6A9D07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9E9B-7F1D-412B-9C28-8D30B122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006B-F9A5-4B10-A5A4-D07DE251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11B1-A99F-4005-BEB7-20A89306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969E-3E40-4B3D-9730-28F28792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84D6-1115-4DFA-994E-4853D016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AB5D-F1B4-4380-9924-6B586BAF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3480-F2E7-454A-9272-E36DDD02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583D-7D1C-42C4-A7F9-8760834E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ÁROSI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A1B6-CBBB-4AB2-86CD-01D661B694A5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61944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5012-BC38-4414-AF4E-9CB870C80631}" type="slidenum">
              <a:rPr b="0" lang="hu-HU" sz="1400" spc="-1" strike="noStrike">
                <a:solidFill>
                  <a:srgbClr val="ffcc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Dátum helye 3"/>
          <p:cNvSpPr/>
          <p:nvPr/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44E0-0D3E-4907-9EA7-C5CB6DA8D614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oldalak tartal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001 Tartalomjegyzé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002 TV-mű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003 Hirde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004 Helyi hí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005 Hírek a nagyvilág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átum helye 3"/>
          <p:cNvSpPr/>
          <p:nvPr/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E909-5AD5-4613-AEE9-6D344C186C62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városi TV mai műs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7.00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írek, időjár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7.20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árosunk az elmúlt 10 évben – 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dokumentum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9.00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í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9.10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eklá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9.20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se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20.00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éj leple alatt – 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amerikai kri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átum helye 3"/>
          <p:cNvSpPr/>
          <p:nvPr/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C340-3427-4DB7-B79D-7F1319BC8015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irde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lvárosi, 3 szobás, gázfűtéses lakás eladó. Tel.: 111-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ürke perzsacicák eladók. Tel.: 222-2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ngol nyelvből korrepetálást vállalok. Tel.: 333-3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koda Favorit, megkímélt állapotban eladó. Tel.: 444-4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C:\Program Files\Common Files\Microsoft Shared\Clipart\cagcat50\BD04918_.WMF"/>
          <p:cNvPicPr/>
          <p:nvPr/>
        </p:nvPicPr>
        <p:blipFill>
          <a:blip r:embed="rId1"/>
          <a:stretch/>
        </p:blipFill>
        <p:spPr>
          <a:xfrm>
            <a:off x="3162240" y="2038320"/>
            <a:ext cx="2819520" cy="2779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átum helye 3"/>
          <p:cNvSpPr/>
          <p:nvPr/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745E-A4E6-4113-83B3-06CE826ADF8D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elyi hír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átum helye 3"/>
          <p:cNvSpPr/>
          <p:nvPr/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46FB-CFF5-4B6C-892B-492D1393F195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írek a nagyvilágbó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átum helye 3"/>
          <p:cNvSpPr/>
          <p:nvPr/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B5F0-1DB9-4C02-91BB-2A6E17806D6A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Nézettségünk az elmúlt hé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49:37Z</dcterms:created>
  <dc:creator>.</dc:creator>
  <dc:description/>
  <dc:language>en-US</dc:language>
  <cp:lastModifiedBy>Mariann</cp:lastModifiedBy>
  <dcterms:modified xsi:type="dcterms:W3CDTF">2015-10-13T19:08:59Z</dcterms:modified>
  <cp:revision>6</cp:revision>
  <dc:subject/>
  <dc:title>Az oldalak tartalma</dc:title>
</cp:coreProperties>
</file>