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1C8-789E-4F5C-A1CF-F88446F0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78A-E5B1-4C29-8AF6-EDBE49FA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3DC-3E71-43F8-B80F-8EA2DE67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043-17AF-4C36-A6C2-9497C473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D1C-51CB-42E4-BD23-BB60416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7D2-6779-4873-995B-6B7C550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4E2-FFEE-44FF-8A94-E74ADA7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616-6C2E-426C-95E5-E84B66C7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6AA-1A7C-4669-859A-71730F1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082-2923-4ACA-BA43-FC1C4DC2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4AB-3501-4387-AF75-6E171EE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8D2-5FEA-4C1D-80DA-BF1742D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1C44-1FBB-4A80-8F5B-0F08A7B6A7D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ék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bufo-viridis"/>
          <p:cNvPicPr/>
          <p:nvPr/>
        </p:nvPicPr>
        <p:blipFill>
          <a:blip r:embed="rId1"/>
          <a:stretch/>
        </p:blipFill>
        <p:spPr>
          <a:xfrm>
            <a:off x="1168560" y="1600200"/>
            <a:ext cx="6902280" cy="4589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92000" y="1268280"/>
            <a:ext cx="7650360" cy="52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 kis rendszert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ékák néhány jellemző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ömök, farkatlan tör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gy jól fejlett végt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upasz bő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ránylag nagy sz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fülnyíl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 csontvá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, zacskó alakú tüd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0-nél több f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599840"/>
            <a:ext cx="403848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4:27:20Z</dcterms:created>
  <dc:creator>afg</dc:creator>
  <dc:description/>
  <dc:language>en-US</dc:language>
  <cp:lastModifiedBy>Mariann</cp:lastModifiedBy>
  <dcterms:modified xsi:type="dcterms:W3CDTF">2019-09-25T03:23:03Z</dcterms:modified>
  <cp:revision>3</cp:revision>
  <dc:subject/>
  <dc:title>1. dia</dc:title>
</cp:coreProperties>
</file>