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2D1-4357-4893-B1FC-84B1D7D4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4B4-6377-4ACA-8215-38381184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3A7-75DA-4276-8295-DFE8112E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DC9-38F0-4C0E-9588-C61D2138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57D-2BCB-471F-AB44-E648C89B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D8E-F4FB-4993-B079-B84F3391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1A0-87C9-4154-833A-A5EA2AC0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F3E5-AEFA-4863-AA6D-3B13E34A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044-03C7-4B1A-8C47-E04DC41B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C27-B1CE-45C8-9144-F79AAFB5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A77-1FCB-4F61-A40F-647283E3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8A2-FA01-4FCB-A1A7-20B0E128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D805-EDEA-473C-95F6-95B222E348B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03640" y="1743120"/>
            <a:ext cx="453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000000"/>
                </a:solidFill>
                <a:latin typeface="Arial"/>
              </a:rPr>
              <a:t>A békák többsége védett, ne bántsuk őket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8:17:35Z</dcterms:created>
  <dc:creator>afg</dc:creator>
  <dc:description/>
  <dc:language>en-US</dc:language>
  <cp:lastModifiedBy>Mariann</cp:lastModifiedBy>
  <dcterms:modified xsi:type="dcterms:W3CDTF">2019-09-25T03:22:53Z</dcterms:modified>
  <cp:revision>2</cp:revision>
  <dc:subject/>
  <dc:title>1. dia</dc:title>
</cp:coreProperties>
</file>