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AD2-5635-4E29-A5F0-C36971E0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A5A-5126-4F78-B1C2-B9AB7805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2D5-C37E-47AB-A102-7DECA3AB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692-72EC-43BE-9124-22B2115F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C01-6645-41CB-9D37-47E9254F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ACA-2DAD-4B43-BECE-546313ED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C76-2FC8-4C6F-9CE4-13E3FCCC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E6C-3693-4F6E-8EB0-BE52E8BA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312-5BB5-4C8A-92F0-96C526A5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7F2-5CDD-43D5-8EDC-46EF6457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2DA-E4C9-4751-9A59-A1C66C9F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906-F8E1-4388-AC23-C9D033E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F07A-410E-45C7-8010-DFE3D856DA3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03640" y="1743120"/>
            <a:ext cx="45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0000"/>
                </a:solidFill>
                <a:latin typeface="Arial"/>
              </a:rPr>
              <a:t>A békák többsége védett, ne  bántsuk őket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8:17:35Z</dcterms:created>
  <dc:creator>afg</dc:creator>
  <dc:description/>
  <dc:language>en-US</dc:language>
  <cp:lastModifiedBy>Virga Mariann</cp:lastModifiedBy>
  <dcterms:modified xsi:type="dcterms:W3CDTF">2020-09-21T06:18:07Z</dcterms:modified>
  <cp:revision>3</cp:revision>
  <dc:subject/>
  <dc:title>1. dia</dc:title>
</cp:coreProperties>
</file>