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3D0-10C7-4302-B4CC-96AE647B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834-7C8D-422C-9099-075396D2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A75-F53A-4393-8A70-3044F40C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1ED-BFBA-4EDC-9508-D976B914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672-C96D-4BB9-8791-3E4E9A91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159-A8B9-4F7B-999A-D8D1D1AC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CB2-E7E5-4BF5-B843-3DE4DC40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DD4-E41C-4A61-A6C5-DA877DEC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7C7-D2A0-4EE8-BAB7-49499AB9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2D9-0094-433C-A086-4D3F879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8C4-0EBC-4EC9-9241-7A7FB67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B0-C8D2-409E-9135-A8A8F18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CD1-16A8-4168-A8FC-5F475EB20E1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ék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bufo-viridis"/>
          <p:cNvPicPr/>
          <p:nvPr/>
        </p:nvPicPr>
        <p:blipFill>
          <a:blip r:embed="rId1"/>
          <a:stretch/>
        </p:blipFill>
        <p:spPr>
          <a:xfrm>
            <a:off x="1168560" y="1600200"/>
            <a:ext cx="6902280" cy="4589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92000" y="1268280"/>
            <a:ext cx="7650360" cy="52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 kis rendszert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békák néhány jellemző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ömök, farkatlan tör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gy jól fejlett végt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upasz bő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ánylag nagy sz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fülnyíl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 csontvá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, zacskó alakú tüd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0-nél több f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599840"/>
            <a:ext cx="403848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4:27:20Z</dcterms:created>
  <dc:creator>afg</dc:creator>
  <dc:description/>
  <dc:language>en-US</dc:language>
  <cp:lastModifiedBy>Virga Mariann</cp:lastModifiedBy>
  <dcterms:modified xsi:type="dcterms:W3CDTF">2020-09-21T06:18:20Z</dcterms:modified>
  <cp:revision>4</cp:revision>
  <dc:subject/>
  <dc:title>1. dia</dc:title>
</cp:coreProperties>
</file>