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42B-500F-4CFC-ACB6-9EA1778E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D24-EA65-4B7A-B49B-7FBF13A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4AF-6317-4B92-A93B-4BF88C16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9CA-C3EE-4FB3-8868-1857392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5BA-FC95-4829-B6BC-F0494DD0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AD8-AFF8-4CA5-9EB4-3E83CD1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26F-9D34-4EB4-A046-5881A14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D0-A82D-42F3-A58C-6821505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8B7-0B64-442A-A1D8-A2E9688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CA0-CD50-4B5B-B3AB-9D68390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6AD-EF1A-4668-9B8F-09D269A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1DE-AC4F-4DF9-9449-90B60FA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87F6-1377-4006-8955-7F79B540859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Virga Mariann</cp:lastModifiedBy>
  <dcterms:modified xsi:type="dcterms:W3CDTF">2021-11-28T16:59:09Z</dcterms:modified>
  <cp:revision>11</cp:revision>
  <dc:subject/>
  <dc:title>XXX Videokölcsönző</dc:title>
</cp:coreProperties>
</file>