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39EE-B746-4A8C-AB8A-2D65F7642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7286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26A1-219B-46AC-BF99-54A220ED5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286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3B2C-CC07-49C7-BE63-8A20504E0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86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5E77-A5DC-4DA1-AB1E-29D399297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286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5C39-1619-438D-9AB7-E1D071694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286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6489-CA53-45D5-89AE-CB1E40301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286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29B1-D1D7-41FF-A2F9-960CD520B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286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A35A-4227-4995-AA97-084A7B5E4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728640"/>
            <a:ext cx="822960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EC2D-B4BB-45A1-AC52-BD948B709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286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2003-C8D7-4036-B00B-AB835503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7286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82C6-0061-46E8-92AA-0DCA831D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286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7480-20D2-4B17-8557-1B2CDB5A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44C82-B1E7-4040-ACC5-2D56FAFB4EDD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Oval 7"/>
          <p:cNvSpPr/>
          <p:nvPr/>
        </p:nvSpPr>
        <p:spPr>
          <a:xfrm>
            <a:off x="142920" y="189000"/>
            <a:ext cx="431640" cy="43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Oval 8"/>
          <p:cNvSpPr/>
          <p:nvPr/>
        </p:nvSpPr>
        <p:spPr>
          <a:xfrm>
            <a:off x="647640" y="189000"/>
            <a:ext cx="432000" cy="431640"/>
          </a:xfrm>
          <a:prstGeom prst="ellipse">
            <a:avLst/>
          </a:prstGeom>
          <a:solidFill>
            <a:srgbClr val="ff8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9"/>
          <p:cNvSpPr/>
          <p:nvPr/>
        </p:nvSpPr>
        <p:spPr>
          <a:xfrm>
            <a:off x="1150920" y="189000"/>
            <a:ext cx="4316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10"/>
          <p:cNvSpPr/>
          <p:nvPr/>
        </p:nvSpPr>
        <p:spPr>
          <a:xfrm>
            <a:off x="1655640" y="189000"/>
            <a:ext cx="432000" cy="43164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Oval 11"/>
          <p:cNvSpPr/>
          <p:nvPr/>
        </p:nvSpPr>
        <p:spPr>
          <a:xfrm>
            <a:off x="2158920" y="189000"/>
            <a:ext cx="432000" cy="431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Oval 12"/>
          <p:cNvSpPr/>
          <p:nvPr/>
        </p:nvSpPr>
        <p:spPr>
          <a:xfrm>
            <a:off x="2664000" y="189000"/>
            <a:ext cx="4316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3"/>
          <p:cNvSpPr/>
          <p:nvPr/>
        </p:nvSpPr>
        <p:spPr>
          <a:xfrm>
            <a:off x="3166920" y="189000"/>
            <a:ext cx="43200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23"/>
          <p:cNvSpPr/>
          <p:nvPr/>
        </p:nvSpPr>
        <p:spPr>
          <a:xfrm>
            <a:off x="3672000" y="18900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title"/>
          </p:nvPr>
        </p:nvSpPr>
        <p:spPr>
          <a:xfrm>
            <a:off x="457200" y="728640"/>
            <a:ext cx="82296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1640" y="728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611280" y="234936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kezdeti pozíc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28640"/>
            <a:ext cx="8229600" cy="6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A golyók pontértéke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Fekete golyó: 7 p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Rózsaszín golyó: 6 p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ék golyó: 5 p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arna golyó: 4 p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Zöld golyó: 3 p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árga golyó: 2 p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28640"/>
            <a:ext cx="8229600" cy="6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Az utóbbi 20 év neves játékosa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tephen Hend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teve Dav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Ronnie O'Sulliv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ark Willi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en Doh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eter Eb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Graeme Do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haun Mur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atthew Stev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Jimmy Wh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6T09:07:41Z</dcterms:created>
  <dc:creator>afg</dc:creator>
  <dc:description/>
  <dc:language>en-US</dc:language>
  <cp:lastModifiedBy>Mariann</cp:lastModifiedBy>
  <dcterms:modified xsi:type="dcterms:W3CDTF">2013-09-08T12:33:51Z</dcterms:modified>
  <cp:revision>8</cp:revision>
  <dc:subject/>
  <dc:title>1. dia</dc:title>
</cp:coreProperties>
</file>