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45005-7AC3-4F3E-9872-9C6B2B629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7286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AAE28-60E0-47F3-89AB-5C67AFF07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7286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455FD-C585-47FC-B515-2F4430E55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86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20662-3820-4F79-B944-0D5A5E4C7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7286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A823C-8C25-41F0-B45A-858A8016A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286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0C71B-783D-41B8-97DB-406FBB008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286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26379-C7A8-466C-8290-09A9D302D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7286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69B3A-2500-4444-AD33-E78E0FB0F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728640"/>
            <a:ext cx="822960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F27C3-0F6E-40A0-B156-180B9A759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286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D3145-7ED1-4A47-8DB7-847B0D75D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7286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08F67-A329-4A90-A28B-30BD47353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7286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61280-08E6-4434-82EE-1EBB26BAE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26FE1-5861-4B06-9EBC-2C53790CFFC1}" type="slidenum">
              <a:rPr b="0" lang="hu-H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Oval 7"/>
          <p:cNvSpPr/>
          <p:nvPr/>
        </p:nvSpPr>
        <p:spPr>
          <a:xfrm>
            <a:off x="142920" y="189000"/>
            <a:ext cx="431640" cy="43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Oval 8"/>
          <p:cNvSpPr/>
          <p:nvPr/>
        </p:nvSpPr>
        <p:spPr>
          <a:xfrm>
            <a:off x="647640" y="189000"/>
            <a:ext cx="432000" cy="431640"/>
          </a:xfrm>
          <a:prstGeom prst="ellipse">
            <a:avLst/>
          </a:prstGeom>
          <a:solidFill>
            <a:srgbClr val="ff81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Oval 9"/>
          <p:cNvSpPr/>
          <p:nvPr/>
        </p:nvSpPr>
        <p:spPr>
          <a:xfrm>
            <a:off x="1150920" y="189000"/>
            <a:ext cx="431640" cy="431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Oval 10"/>
          <p:cNvSpPr/>
          <p:nvPr/>
        </p:nvSpPr>
        <p:spPr>
          <a:xfrm>
            <a:off x="1655640" y="189000"/>
            <a:ext cx="432000" cy="431640"/>
          </a:xfrm>
          <a:prstGeom prst="ellipse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Oval 11"/>
          <p:cNvSpPr/>
          <p:nvPr/>
        </p:nvSpPr>
        <p:spPr>
          <a:xfrm>
            <a:off x="2158920" y="189000"/>
            <a:ext cx="432000" cy="43164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Oval 12"/>
          <p:cNvSpPr/>
          <p:nvPr/>
        </p:nvSpPr>
        <p:spPr>
          <a:xfrm>
            <a:off x="2664000" y="189000"/>
            <a:ext cx="431640" cy="431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3"/>
          <p:cNvSpPr/>
          <p:nvPr/>
        </p:nvSpPr>
        <p:spPr>
          <a:xfrm>
            <a:off x="3166920" y="189000"/>
            <a:ext cx="432000" cy="43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Oval 23"/>
          <p:cNvSpPr/>
          <p:nvPr/>
        </p:nvSpPr>
        <p:spPr>
          <a:xfrm>
            <a:off x="3672000" y="189000"/>
            <a:ext cx="43164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title"/>
          </p:nvPr>
        </p:nvSpPr>
        <p:spPr>
          <a:xfrm>
            <a:off x="457200" y="728640"/>
            <a:ext cx="82296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31640" y="728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1"/>
          <p:cNvSpPr/>
          <p:nvPr/>
        </p:nvSpPr>
        <p:spPr>
          <a:xfrm>
            <a:off x="611280" y="2349360"/>
            <a:ext cx="28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kezdeti pozíci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728640"/>
            <a:ext cx="8229600" cy="68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000000"/>
                </a:solidFill>
                <a:latin typeface="Arial"/>
              </a:rPr>
              <a:t>A golyók pontértéke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Fekete golyó: 7 po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Rózsaszín golyó: 6 po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Kék golyó: 5 po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arna golyó: 4 po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Zöld golyó: 3 po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Sárga golyó: 2 po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728640"/>
            <a:ext cx="8229600" cy="68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000000"/>
                </a:solidFill>
                <a:latin typeface="Arial"/>
              </a:rPr>
              <a:t>Az utóbbi 20 év neves játékosa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5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Stephen Hend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Steve Dav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Ronnie O'Sulliv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Mark Willi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Ken Doher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25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Peter Ebd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Graeme Dot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Shaun Murp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Matthew Steve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Jimmy Wh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6T09:07:41Z</dcterms:created>
  <dc:creator>afg</dc:creator>
  <dc:description/>
  <dc:language>en-US</dc:language>
  <cp:lastModifiedBy>Mariann</cp:lastModifiedBy>
  <dcterms:modified xsi:type="dcterms:W3CDTF">2013-09-08T12:33:51Z</dcterms:modified>
  <cp:revision>8</cp:revision>
  <dc:subject/>
  <dc:title>1. dia</dc:title>
</cp:coreProperties>
</file>