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967DB-CE66-414C-9020-D5FE753D565F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39631-674D-4DA0-B89A-E4772C1D5230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A kedvezmény mértéke 5%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AB477-F35C-490B-ACFD-A9FBA1FC3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057400" y="1981080"/>
            <a:ext cx="640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057400" y="4130640"/>
            <a:ext cx="640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43A72-FE41-4CAD-83F6-8D814F066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057400" y="1981080"/>
            <a:ext cx="3123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37360" y="1981080"/>
            <a:ext cx="3123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057400" y="4130640"/>
            <a:ext cx="3123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337360" y="4130640"/>
            <a:ext cx="3123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99F2B-A072-4413-82D1-575613645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057400" y="1981080"/>
            <a:ext cx="206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21360" y="1981080"/>
            <a:ext cx="206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85680" y="1981080"/>
            <a:ext cx="206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057400" y="4130640"/>
            <a:ext cx="206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221360" y="4130640"/>
            <a:ext cx="206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85680" y="4130640"/>
            <a:ext cx="206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45737-4010-473C-B354-5A323C71C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057400" y="1981080"/>
            <a:ext cx="6400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2678C-0CB0-4A25-A4D7-3D6942689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057400" y="1981080"/>
            <a:ext cx="6400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548D3-272A-4A32-99AF-EB9F5E2F6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057400" y="1981080"/>
            <a:ext cx="3123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337360" y="1981080"/>
            <a:ext cx="3123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86CD9-7143-4F8F-849D-EE3602DC2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80B52-4BB2-4A1F-9155-C86A85978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057400" y="609120"/>
            <a:ext cx="6400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8ED29-713B-43A8-99EE-522CE926F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057400" y="1981080"/>
            <a:ext cx="3123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337360" y="1981080"/>
            <a:ext cx="3123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057400" y="4130640"/>
            <a:ext cx="3123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2E879-F16A-4134-ABF2-5FD4F13F3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057400" y="1981080"/>
            <a:ext cx="3123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337360" y="1981080"/>
            <a:ext cx="3123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337360" y="4130640"/>
            <a:ext cx="3123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4B09D-BDF5-4419-8D60-DB1507BBC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057400" y="1981080"/>
            <a:ext cx="3123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337360" y="1981080"/>
            <a:ext cx="3123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057400" y="4130640"/>
            <a:ext cx="640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887B9-9642-4A84-8B51-7C010E4F7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057400" y="1981080"/>
            <a:ext cx="6400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36D36-F0BC-492A-8083-FF5436297A7E}" type="slidenum"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533520" y="0"/>
            <a:ext cx="1079280" cy="60958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XX </a:t>
            </a: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Könyvkiad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7"/>
          <p:cNvSpPr/>
          <p:nvPr/>
        </p:nvSpPr>
        <p:spPr>
          <a:xfrm>
            <a:off x="2895480" y="2652840"/>
            <a:ext cx="3749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Kiadónk tankönyvek, ismeretterjesztő kiadványok, lexikonok kiadásával foglalkozi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8" descr="C:\Program Files\Common Files\Microsoft Shared\Clipart\cagcat50\BS00554_.wmf"/>
          <p:cNvPicPr/>
          <p:nvPr/>
        </p:nvPicPr>
        <p:blipFill>
          <a:blip r:embed="rId1"/>
          <a:stretch/>
        </p:blipFill>
        <p:spPr>
          <a:xfrm>
            <a:off x="6516720" y="4365720"/>
            <a:ext cx="2158920" cy="19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eddig megjelent kiadványain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057400" y="1981080"/>
            <a:ext cx="6400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398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Regék és mondák (történelmi olvasókönyv általános iskolásoknak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ts val="2398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Érettségi feladatok fizikábó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ts val="2398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Érettségi feladatok biológiábó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ts val="2398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Érettségi feladatok matematikábó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ts val="2398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Biológiai kislexik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AutoShape 3"/>
          <p:cNvSpPr/>
          <p:nvPr/>
        </p:nvSpPr>
        <p:spPr>
          <a:xfrm>
            <a:off x="2743200" y="1523880"/>
            <a:ext cx="5435640" cy="3311640"/>
          </a:xfrm>
          <a:prstGeom prst="irregularSeal2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Viszonteladók és iskolák kedvezménnyel vásárolhatnak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2843280" y="2637000"/>
            <a:ext cx="3749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Keresse fel bemutatóüzletünket a kiadónál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3T08:14:40Z</dcterms:created>
  <dc:creator>NJSZT</dc:creator>
  <dc:description/>
  <dc:language>en-US</dc:language>
  <cp:lastModifiedBy>emberke</cp:lastModifiedBy>
  <dcterms:modified xsi:type="dcterms:W3CDTF">2013-10-07T05:45:50Z</dcterms:modified>
  <cp:revision>8</cp:revision>
  <dc:subject>ECDL</dc:subject>
  <dc:title>Prezentáció forrás, 40.feladat</dc:title>
</cp:coreProperties>
</file>