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BCB-CA91-49E5-910B-85710594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CF0-E951-4415-8B08-3505A577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E8F8-9888-474A-BC31-378F4A7B6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E31-AC81-46C1-8D7D-22B22635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2E0B-0AC0-4EE9-86F0-28AB3D49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A925-7888-4AA9-A9AA-4FB315FA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8BC7-7ED6-4AC0-81F2-E165F8E9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0558-B3FA-42A2-AD2B-10667060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A290-2C3F-4E97-AC70-76916148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0933-6F27-4A1A-A1A0-474CBB01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A0A8-E6D9-4004-A43A-01AED323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659-C51A-4330-8F05-B0A77FB8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ÁROSI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7877-4E56-44E2-8CEF-18331F6828E2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61944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7CA7-287D-46EC-9127-CC03D7E2FC97}" type="slidenum">
              <a:rPr b="0" lang="hu-HU" sz="1400" spc="-1" strike="noStrike">
                <a:solidFill>
                  <a:srgbClr val="ffcc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02E8-60EC-4BB6-8455-3546D0855698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oldalak tart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1 Tartalomjegy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2 TV-mű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3 Hirde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4 Helyi 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5 Hírek a nagyvilág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59B6-E855-416F-A265-E8DF9BBE4B40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városi TV mai műs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7.0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írek, időjá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7.2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árosunk az elmúlt 10 évben – 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dokumentum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9.00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9.1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9.2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se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20.0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éj leple alatt – 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amerikai kri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E228-E8C6-4E03-9054-3C0153C4CA04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ird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lvárosi, 3 szobás, gázfűtéses lakás eladó. Tel.: 111-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ürke perzsacicák eladók. Tel.: 222-2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ngol nyelvből korrepetálást vállalok. Tel.: 333-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koda Favorit, megkímélt állapotban eladó. Tel.: 444-4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C:\Program Files\Common Files\Microsoft Shared\Clipart\cagcat50\BD04918_.WMF"/>
          <p:cNvPicPr/>
          <p:nvPr/>
        </p:nvPicPr>
        <p:blipFill>
          <a:blip r:embed="rId1"/>
          <a:stretch/>
        </p:blipFill>
        <p:spPr>
          <a:xfrm>
            <a:off x="3162240" y="2038320"/>
            <a:ext cx="2819520" cy="2779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44E5-8FF6-4F93-84CC-B56B4914B04D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elyi hír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9269-E592-4FA6-AE09-F946A60B3E59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írek a nagyvilág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064A-D4B3-4488-809B-59CBB816EAB7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Nézettségünk az elmúlt hé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49:37Z</dcterms:created>
  <dc:creator>.</dc:creator>
  <dc:description/>
  <dc:language>en-US</dc:language>
  <cp:lastModifiedBy>Mariann</cp:lastModifiedBy>
  <dcterms:modified xsi:type="dcterms:W3CDTF">2015-10-13T19:08:59Z</dcterms:modified>
  <cp:revision>6</cp:revision>
  <dc:subject/>
  <dc:title>Az oldalak tartalma</dc:title>
</cp:coreProperties>
</file>