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B45-8D43-4C6B-8F06-5EB7740E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0C83-161F-4B9A-B2E5-384A090E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BD06-041C-4123-B937-042DE472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A4EE-7BD9-4336-98C9-201A18A8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9BA-296F-4D63-BE4B-FAD69F85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F52-E29C-4A76-A8E1-9F5B2C21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EA7-9BA5-4DA2-9BE0-C0E0AC8F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E8C3-65EA-40C7-9390-B1359665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728640"/>
            <a:ext cx="82296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9CE3-D333-4C72-8169-C396C80A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C143-D98F-4768-B7BF-832CE11B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B66-A83C-4322-9DD6-D57F6A26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FA46-C6D0-4BE4-BECA-70AFF288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5679-66CD-4EDD-8D78-9AF22876A1DB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7"/>
          <p:cNvSpPr/>
          <p:nvPr/>
        </p:nvSpPr>
        <p:spPr>
          <a:xfrm>
            <a:off x="142920" y="189000"/>
            <a:ext cx="43164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8"/>
          <p:cNvSpPr/>
          <p:nvPr/>
        </p:nvSpPr>
        <p:spPr>
          <a:xfrm>
            <a:off x="647640" y="189000"/>
            <a:ext cx="432000" cy="431640"/>
          </a:xfrm>
          <a:prstGeom prst="ellipse">
            <a:avLst/>
          </a:prstGeom>
          <a:solidFill>
            <a:srgbClr val="ff8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9"/>
          <p:cNvSpPr/>
          <p:nvPr/>
        </p:nvSpPr>
        <p:spPr>
          <a:xfrm>
            <a:off x="1150920" y="189000"/>
            <a:ext cx="4316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10"/>
          <p:cNvSpPr/>
          <p:nvPr/>
        </p:nvSpPr>
        <p:spPr>
          <a:xfrm>
            <a:off x="1655640" y="189000"/>
            <a:ext cx="432000" cy="431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11"/>
          <p:cNvSpPr/>
          <p:nvPr/>
        </p:nvSpPr>
        <p:spPr>
          <a:xfrm>
            <a:off x="2158920" y="189000"/>
            <a:ext cx="432000" cy="431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2"/>
          <p:cNvSpPr/>
          <p:nvPr/>
        </p:nvSpPr>
        <p:spPr>
          <a:xfrm>
            <a:off x="2664000" y="18900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3"/>
          <p:cNvSpPr/>
          <p:nvPr/>
        </p:nvSpPr>
        <p:spPr>
          <a:xfrm>
            <a:off x="3166920" y="18900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23"/>
          <p:cNvSpPr/>
          <p:nvPr/>
        </p:nvSpPr>
        <p:spPr>
          <a:xfrm>
            <a:off x="3672000" y="18900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640" y="728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611280" y="2349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ezdeti pozí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golyók pontérték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kete golyó: 7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ózsaszín golyó: 6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k golyó: 5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arna golyó: 4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Zöld golyó: 3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árga golyó: 2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z utóbbi 20 év neves játékos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ephen Hend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eve D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onnie O'Sulli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rk Willi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n Do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eter Eb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raeme D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haun Mur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tthew Stev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immy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09:07:41Z</dcterms:created>
  <dc:creator>afg</dc:creator>
  <dc:description/>
  <dc:language>en-US</dc:language>
  <cp:lastModifiedBy>Mariann</cp:lastModifiedBy>
  <dcterms:modified xsi:type="dcterms:W3CDTF">2013-09-08T12:33:51Z</dcterms:modified>
  <cp:revision>8</cp:revision>
  <dc:subject/>
  <dc:title>1. dia</dc:title>
</cp:coreProperties>
</file>