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537A-2E98-46A8-A6BB-E57E3E76219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31"/>
          <p:cNvSpPr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4AA-89FD-4423-A116-7FC746D7FA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86364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5C84-33BA-4BB5-92F6-4A1EF148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6E44-05AE-4C35-A402-AEB6AF2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EBE0-686C-4829-AFBA-A4DBE313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EF1F-D65A-44CA-BB48-6AAFA31B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68EE-DE5D-402A-9538-0EC512AB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FBCA-7328-45FF-AF63-D7EE31D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B9FD-7BE0-4698-9594-5C37F39A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44F4-7E97-4B44-A5F2-CDA22148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1BA6-9D1C-4A20-AE84-E77609DC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F47F-5E06-4FE6-A169-44EF1BD4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AD27-97EA-4B7E-ABA9-1EBF5CD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5BCE-6314-4BA4-A681-A8000926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F7E-3EB9-491E-A406-1EE6DBA21B3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1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2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5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4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4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Diák</cp:lastModifiedBy>
  <dcterms:modified xsi:type="dcterms:W3CDTF">2019-10-14T06:18:38Z</dcterms:modified>
  <cp:revision>8</cp:revision>
  <dc:subject>ECDL</dc:subject>
  <dc:title>Prezentáció forrás, 8.feladat</dc:title>
</cp:coreProperties>
</file>