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117C-CAEB-4160-BD62-6AD84FF342F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E22D-883D-4448-90AB-6DCCFBE7395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hu-HU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A68-D89B-4EF2-9416-258D7F50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523-5C4E-43DE-ADB9-32DCB8A8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567-136B-4E73-B3C0-41AD10D8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BE8-E7BB-4ECF-BE89-E3DA1134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D02-03A3-4091-A5E2-32C43A2C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A79-F15D-431C-B0B6-967ABD0F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21E-6661-41A5-8229-89DA00EB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BA4-8539-44E8-B1DD-7EE375BE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324-88DF-429E-B2CD-A4F7D8F4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11C-2D0A-4B2E-9B0B-8BBDDBC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B07-F88C-41E5-BF45-A04942D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51C-27A4-4F1F-9C3C-67A212FF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1D23-86D0-4CBA-90C5-E66367FD1B6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Program Files\Common Files\Microsoft Shared\Clipart\cagcat50\BD08911_.WMF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C:\Program Files\Common Files\Microsoft Shared\Clipart\cagcat50\PE01686_.wmf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8580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2"/>
          <p:cNvSpPr/>
          <p:nvPr/>
        </p:nvSpPr>
        <p:spPr>
          <a:xfrm>
            <a:off x="693432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NJSZT</dc:creator>
  <dc:description/>
  <dc:language>en-US</dc:language>
  <cp:lastModifiedBy>emberke</cp:lastModifiedBy>
  <dcterms:modified xsi:type="dcterms:W3CDTF">2012-03-12T12:11:58Z</dcterms:modified>
  <cp:revision>8</cp:revision>
  <dc:subject>ECDL</dc:subject>
  <dc:title>Prezentáció forrás, 21.feladat</dc:title>
</cp:coreProperties>
</file>