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CFF8-7673-496C-9365-8C1F8835E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1C21-2116-489A-9316-F071D563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4495-1F7E-45C9-8F49-783351ECF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ADF2-DBAB-43C9-99AD-A94AFAFA2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C3A3-63B5-407D-A79E-01BF770F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9FB7-474E-4377-9619-1E1660C3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7CBB-5513-4D44-B3C3-427CFCDC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DFC8-F2A1-4D18-B602-BAF483A0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475C-E108-489A-9D22-33523691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539A-2D37-4393-96F2-C925A433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5F3C-4875-448E-B318-836B4FDD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6A17-2E89-452F-A77F-1F2DA08E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4204-D374-4185-9325-A91230054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98840" y="639720"/>
            <a:ext cx="7544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Times New Roman"/>
              </a:rPr>
              <a:t>XXX 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Times New Roman"/>
              </a:rPr>
              <a:t>Pi</a:t>
            </a:r>
            <a:r>
              <a:rPr b="0" lang="hu-HU" sz="18000" spc="-1" strike="noStrike">
                <a:solidFill>
                  <a:srgbClr val="000000"/>
                </a:solidFill>
                <a:latin typeface="Times New Roman"/>
              </a:rPr>
              <a:t>zzéria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47920" y="4591080"/>
            <a:ext cx="6095880" cy="380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3105000"/>
            <a:ext cx="6095880" cy="38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933480"/>
            <a:ext cx="6095880" cy="380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876240"/>
            <a:ext cx="5639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zzá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mbá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jtos, gombá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5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öldsé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wa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0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ogna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al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sványví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Ft/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énsavas üdít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 Ft/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stos üdít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Ft/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szer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ztenyepür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gylaltkeh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0240" y="2754360"/>
            <a:ext cx="626688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5520"/>
                <a:tab algn="l" pos="4670280"/>
                <a:tab algn="l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yitvatartá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–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9.00–21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5520"/>
                <a:tab algn="l" pos="4670280"/>
                <a:tab algn="l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zo–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00–23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5520"/>
                <a:tab algn="l" pos="4670280"/>
                <a:tab algn="l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ztalfoglalás és megrendelés: (10) 123-4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9:23:51Z</dcterms:created>
  <dc:creator>NJSZT</dc:creator>
  <dc:description/>
  <dc:language>en-US</dc:language>
  <cp:lastModifiedBy>.</cp:lastModifiedBy>
  <dcterms:modified xsi:type="dcterms:W3CDTF">2003-05-24T21:34:15Z</dcterms:modified>
  <cp:revision>6</cp:revision>
  <dc:subject>ECDL</dc:subject>
  <dc:title>Prezentáció forrás, 6.feladat</dc:title>
</cp:coreProperties>
</file>