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6BE-282E-4262-9116-90D25507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D1D-BA64-4F78-A9EC-C9B90176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FC3-A72B-4E1F-8D23-C9FC8928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0D2-6BF5-4548-87C6-E948F274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6C6-809A-484E-8CBE-2B7D4A6D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63B-372E-4C5F-B213-126E4D90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691-0C00-4125-8460-D51D696A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B98-D000-49D4-B514-4552D5AF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E5F-B11A-4489-87CE-76B53467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2CB-7D11-4691-BF74-A5EF1A2E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93F-A5E0-4278-98BA-2D1B8477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645-B166-444B-92FC-E62EF24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7CF5-F06B-4F90-8692-6DFC78E58504}" type="slidenum">
              <a:rPr b="0" lang="hu-HU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Naprendszer"/>
          <p:cNvPicPr/>
          <p:nvPr/>
        </p:nvPicPr>
        <p:blipFill>
          <a:blip r:embed="rId2"/>
          <a:stretch/>
        </p:blipFill>
        <p:spPr>
          <a:xfrm>
            <a:off x="774720" y="189000"/>
            <a:ext cx="759456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4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25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bbe0e3"/>
                </a:solidFill>
                <a:latin typeface="Arial"/>
              </a:rPr>
              <a:t>A bolygók főbb adatai a Földhöz viszonyítva</a:t>
            </a:r>
            <a:endParaRPr b="0" lang="en-US" sz="40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050920" y="2492280"/>
          <a:ext cx="4969080" cy="3529080"/>
        </p:xfrm>
        <a:graphic>
          <a:graphicData uri="http://schemas.openxmlformats.org/drawingml/2006/table">
            <a:tbl>
              <a:tblPr/>
              <a:tblGrid>
                <a:gridCol w="1243080"/>
                <a:gridCol w="1241640"/>
                <a:gridCol w="1242720"/>
                <a:gridCol w="1241640"/>
              </a:tblGrid>
              <a:tr h="77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Bolyg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Egyenlítői</a:t>
                      </a:r>
                      <a:br>
                        <a:rPr sz="1200"/>
                      </a:b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átmér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Töm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Keringési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erkú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3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Vé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Fö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Jupi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1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Szatur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29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Urá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84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Neptun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3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bbe0e3"/>
                          </a:solidFill>
                          <a:latin typeface="Times New Roman"/>
                          <a:ea typeface="Times New Roman"/>
                        </a:rPr>
                        <a:t>164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309"/>
          <p:cNvSpPr/>
          <p:nvPr/>
        </p:nvSpPr>
        <p:spPr>
          <a:xfrm>
            <a:off x="0" y="4746600"/>
            <a:ext cx="16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be0e3"/>
                </a:solidFill>
                <a:latin typeface="Arial"/>
              </a:rPr>
              <a:t>A Naprendszer bolygói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Kőzet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erkú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Vé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Föld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Gázbolygók: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Szatur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Urá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Neptunusz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bbe0e3"/>
                </a:solidFill>
                <a:latin typeface="Arial"/>
              </a:rPr>
              <a:t>Plútó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8:26:57Z</dcterms:created>
  <dc:creator>afg</dc:creator>
  <dc:description/>
  <dc:language>en-US</dc:language>
  <cp:lastModifiedBy>Mariann</cp:lastModifiedBy>
  <dcterms:modified xsi:type="dcterms:W3CDTF">2015-10-06T18:25:07Z</dcterms:modified>
  <cp:revision>8</cp:revision>
  <dc:subject/>
  <dc:title>1. dia</dc:title>
</cp:coreProperties>
</file>