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4E86F-DC4D-4F0E-B926-6008730CB1E9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Dia számának hely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14E26-A8A8-4BBD-B968-2E3018773A3A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6E28-AEB6-4410-9383-25758F713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E596-A4CD-4BEC-96BD-33AA86ACB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E2B5-7D63-472E-9E8C-6977B540C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9D22-AB88-4AE7-BA72-54EE75843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C5B9-3805-43F3-9D7E-1DF2CBAF4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9F7C-AF4C-4C26-8A70-C8C360588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3DB9-1DDC-4187-9405-8BCA6042E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EBE0-8FB5-48DB-990E-D9CFD8E76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8243-0BF6-4B5B-A8EE-2F61CA0BC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92EC-492B-4BB5-9250-457A730ED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8620-875D-42F2-96BC-356496B8B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3665-64E4-40B3-B620-27B8E37CC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DDB3F-D216-47F6-A063-91A527BA23B8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Oval 7"/>
          <p:cNvSpPr/>
          <p:nvPr/>
        </p:nvSpPr>
        <p:spPr>
          <a:xfrm>
            <a:off x="0" y="3546360"/>
            <a:ext cx="304920" cy="304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Oval 8"/>
          <p:cNvSpPr/>
          <p:nvPr/>
        </p:nvSpPr>
        <p:spPr>
          <a:xfrm>
            <a:off x="6400800" y="457200"/>
            <a:ext cx="609480" cy="6094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Oval 9"/>
          <p:cNvSpPr/>
          <p:nvPr/>
        </p:nvSpPr>
        <p:spPr>
          <a:xfrm>
            <a:off x="7696080" y="2438280"/>
            <a:ext cx="1295640" cy="129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Oval 10"/>
          <p:cNvSpPr/>
          <p:nvPr/>
        </p:nvSpPr>
        <p:spPr>
          <a:xfrm>
            <a:off x="6553080" y="228600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Oval 11"/>
          <p:cNvSpPr/>
          <p:nvPr/>
        </p:nvSpPr>
        <p:spPr>
          <a:xfrm>
            <a:off x="685800" y="75096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Oval 12"/>
          <p:cNvSpPr/>
          <p:nvPr/>
        </p:nvSpPr>
        <p:spPr>
          <a:xfrm>
            <a:off x="2400480" y="5029200"/>
            <a:ext cx="761760" cy="762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Oval 13"/>
          <p:cNvSpPr/>
          <p:nvPr/>
        </p:nvSpPr>
        <p:spPr>
          <a:xfrm>
            <a:off x="6723000" y="6013440"/>
            <a:ext cx="15264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Oval 14"/>
          <p:cNvSpPr/>
          <p:nvPr/>
        </p:nvSpPr>
        <p:spPr>
          <a:xfrm>
            <a:off x="1096920" y="580860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Oval 15"/>
          <p:cNvSpPr/>
          <p:nvPr/>
        </p:nvSpPr>
        <p:spPr>
          <a:xfrm>
            <a:off x="4648320" y="53244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Oval 16"/>
          <p:cNvSpPr/>
          <p:nvPr/>
        </p:nvSpPr>
        <p:spPr>
          <a:xfrm>
            <a:off x="7696080" y="5029200"/>
            <a:ext cx="304920" cy="304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Négyágú csillag 17"/>
          <p:cNvSpPr/>
          <p:nvPr/>
        </p:nvSpPr>
        <p:spPr>
          <a:xfrm rot="19189200">
            <a:off x="1488600" y="114120"/>
            <a:ext cx="1441440" cy="1728720"/>
          </a:xfrm>
          <a:custGeom>
            <a:avLst/>
            <a:gdLst>
              <a:gd name="textAreaLeft" fmla="*/ 594000 w 1441440"/>
              <a:gd name="textAreaRight" fmla="*/ 847440 w 1441440"/>
              <a:gd name="textAreaTop" fmla="*/ 712440 h 1728720"/>
              <a:gd name="textAreaBottom" fmla="*/ 101628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ff"/>
                </a:solidFill>
                <a:latin typeface="Calibri"/>
              </a:rPr>
              <a:t>Naprendszerünk bolygói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Dia számának helye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A3571-047B-46B8-B175-406436F06A45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ff"/>
                </a:solidFill>
                <a:latin typeface="Calibri"/>
              </a:rPr>
              <a:t>Neptunusz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Calibri"/>
              </a:rPr>
              <a:t>Átmérője: 48600 k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Calibri"/>
              </a:rPr>
              <a:t>Keringési idő: 165,5 év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Calibri"/>
              </a:rPr>
              <a:t>Sebesség: 5,4 km/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Dia számának hely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B7B04-21F6-4A24-947E-3A8E12BA68BA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ff"/>
                </a:solidFill>
                <a:latin typeface="Calibri"/>
              </a:rPr>
              <a:t>Merkú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Calibri"/>
              </a:rPr>
              <a:t>Átmérője: 4880 k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Calibri"/>
              </a:rPr>
              <a:t>Keringési idő: 0,24 év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Calibri"/>
              </a:rPr>
              <a:t>Sebesség: 48 km/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Dia számának hely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E828C-DE8F-4D6C-BDD2-E2BAB4C58BFC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ff"/>
                </a:solidFill>
                <a:latin typeface="Calibri"/>
              </a:rPr>
              <a:t>Vénusz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Calibri"/>
              </a:rPr>
              <a:t>Átmérője: 12104 k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Calibri"/>
              </a:rPr>
              <a:t>Keringési idő: 0,62 év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Calibri"/>
              </a:rPr>
              <a:t>Sebesség: 35 km/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Dia számának hely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C9893-A64D-4A12-8053-750E1D63CC5A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ff"/>
                </a:solidFill>
                <a:latin typeface="Calibri"/>
              </a:rPr>
              <a:t>Föld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Calibri"/>
              </a:rPr>
              <a:t>Átmérője: 12756 k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Calibri"/>
              </a:rPr>
              <a:t>Keringési idő: 1 év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Calibri"/>
              </a:rPr>
              <a:t>Sebesség: 30 km/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Dia számának hely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BD5CA-7FB0-4A3F-92C9-D2A7F0E871A0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ff"/>
                </a:solidFill>
                <a:latin typeface="Calibri"/>
              </a:rPr>
              <a:t>Mar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Calibri"/>
              </a:rPr>
              <a:t>Átmérője: 6794 k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Calibri"/>
              </a:rPr>
              <a:t>Keringési idő: 1,88 év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Calibri"/>
              </a:rPr>
              <a:t>Sebesség: 24 km/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Dia számának hely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4CFED-D765-4EA2-B098-916FC7DE4009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ff"/>
                </a:solidFill>
                <a:latin typeface="Calibri"/>
              </a:rPr>
              <a:t>Jupit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Calibri"/>
              </a:rPr>
              <a:t>Átmérője: 142796 k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Calibri"/>
              </a:rPr>
              <a:t>Keringési idő: 11,87 év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Calibri"/>
              </a:rPr>
              <a:t>Sebesség: 22 km/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Dia számának hely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72C91-0305-43B7-B96C-0377450FFD58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ff"/>
                </a:solidFill>
                <a:latin typeface="Calibri"/>
              </a:rPr>
              <a:t>Szaturnusz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Calibri"/>
              </a:rPr>
              <a:t>Átmérője: 120000 k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Calibri"/>
              </a:rPr>
              <a:t>Keringési idő: 29,62 év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Calibri"/>
              </a:rPr>
              <a:t>Sebesség: 9,6 km/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Dia számának hely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DDCB0-95D2-4858-BCDD-77109CB9B0EA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ff"/>
                </a:solidFill>
                <a:latin typeface="Calibri"/>
              </a:rPr>
              <a:t>Uránusz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Calibri"/>
              </a:rPr>
              <a:t>Átmérője: 50800 k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Calibri"/>
              </a:rPr>
              <a:t>Keringési idő: 84,6 év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Calibri"/>
              </a:rPr>
              <a:t>Sebesség: 6,8 km/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Dia számának hely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88D68-47B9-4FE0-9A89-C6D215DBCD00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ff"/>
                </a:solidFill>
                <a:latin typeface="Calibri"/>
              </a:rPr>
              <a:t>Plútó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Calibri"/>
              </a:rPr>
              <a:t>Átmérője: 2300 k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Calibri"/>
              </a:rPr>
              <a:t>Keringési idő: 251,9 év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Calibri"/>
              </a:rPr>
              <a:t>Sebesség: 4,7 km/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Dia számának hely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A7B7F-6608-4BF2-8F00-1697BB73573E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6T19:59:50Z</dcterms:created>
  <dc:creator>NJSZT</dc:creator>
  <dc:description/>
  <dc:language>en-US</dc:language>
  <cp:lastModifiedBy>Virga Mariann</cp:lastModifiedBy>
  <dcterms:modified xsi:type="dcterms:W3CDTF">2023-04-23T12:07:10Z</dcterms:modified>
  <cp:revision>19</cp:revision>
  <dc:subject>ECDL</dc:subject>
  <dc:title>Prezentáció forrás, 27.feladat</dc:title>
</cp:coreProperties>
</file>